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D50-4D88-426B-9437-AB6402FB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7AE-ECA7-4740-8057-B5195012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3EA-F38F-47E7-A5CC-9E89C323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365-4FB5-46F0-9F68-6276AEEA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BA9-3B84-43AC-8E64-95B6B20D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A40-693C-4B37-93BB-7B101056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207-3FA5-44C8-8532-C28A8A47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521-5C20-4E41-A02D-5227B1F0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B46-962C-4218-9486-85A69518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294-6AB1-49D1-AF85-7305721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F78-7D50-4CDC-9AE3-05223E26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AF7-6E55-4636-BC1E-6C357646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6259-F22D-4EA8-BE7A-E4B39F492D3A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cc0000"/>
                </a:solidFill>
                <a:latin typeface="Angsana New"/>
              </a:rPr>
              <a:t>การป้องกันและปราบปรามการฟอกเงิ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66ff"/>
                </a:solidFill>
                <a:latin typeface="Angsana New"/>
              </a:rPr>
              <a:t>โด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66ff"/>
                </a:solidFill>
                <a:latin typeface="Angsana New"/>
              </a:rPr>
              <a:t>พันตำรวจเอก สีหนาท ประยูรรัตน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66ff"/>
                </a:solidFill>
                <a:latin typeface="Angsana New"/>
              </a:rPr>
              <a:t>รองเลขาธิกา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66ff"/>
                </a:solidFill>
                <a:latin typeface="Angsana New"/>
              </a:rPr>
              <a:t>คณะกรรมการป้องกันและปราบปรามการฟอกเงิ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3333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00200" y="228600"/>
            <a:ext cx="6477120" cy="9144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ngsana New"/>
              </a:rPr>
              <a:t>บทกฎหมายที่เกี่ยวข้อ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" name=""/>
          <p:cNvSpPr/>
          <p:nvPr/>
        </p:nvSpPr>
        <p:spPr>
          <a:xfrm>
            <a:off x="-96120" y="2482920"/>
            <a:ext cx="9315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ngsana New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7. </a:t>
            </a:r>
            <a:r>
              <a:rPr b="1" lang="hi-IN" sz="4000" spc="-1" strike="noStrike">
                <a:solidFill>
                  <a:srgbClr val="ffff66"/>
                </a:solidFill>
                <a:latin typeface="Angsana New"/>
              </a:rPr>
              <a:t>ความผิดเกี่ยวกับการลักลอบหนีศุลกาก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      </a:t>
            </a: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-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ตาม พ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ร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บ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ศุลกากร พ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ศ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 2469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00200" y="228600"/>
            <a:ext cx="6477120" cy="9144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ngsana New"/>
              </a:rPr>
              <a:t>บทกฎหมายที่เกี่ยวข้อ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" name=""/>
          <p:cNvSpPr/>
          <p:nvPr/>
        </p:nvSpPr>
        <p:spPr>
          <a:xfrm>
            <a:off x="-57600" y="2482920"/>
            <a:ext cx="9378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ngsana New"/>
              </a:rPr>
              <a:t>   </a:t>
            </a:r>
            <a:r>
              <a:rPr b="1" lang="en-US" sz="4000" spc="-1" strike="noStrike">
                <a:solidFill>
                  <a:srgbClr val="cc0000"/>
                </a:solidFill>
                <a:latin typeface="Angsana New"/>
              </a:rPr>
              <a:t>8. </a:t>
            </a:r>
            <a:r>
              <a:rPr b="1" lang="hi-IN" sz="4000" spc="-1" strike="noStrike">
                <a:solidFill>
                  <a:srgbClr val="cc0000"/>
                </a:solidFill>
                <a:latin typeface="Angsana New"/>
              </a:rPr>
              <a:t>ความผิดเกี่ยวกับการก่อการร้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ngsana New"/>
              </a:rPr>
              <a:t>      </a:t>
            </a:r>
            <a:r>
              <a:rPr b="1" lang="en-US" sz="4000" spc="-1" strike="noStrike">
                <a:solidFill>
                  <a:srgbClr val="cc0000"/>
                </a:solidFill>
                <a:latin typeface="Angsana New"/>
              </a:rPr>
              <a:t>-</a:t>
            </a:r>
            <a:r>
              <a:rPr b="1" lang="en-US" sz="3600" spc="-1" strike="noStrike">
                <a:solidFill>
                  <a:srgbClr val="cc0000"/>
                </a:solidFill>
                <a:latin typeface="Angsana New"/>
              </a:rPr>
              <a:t>  </a:t>
            </a:r>
            <a:r>
              <a:rPr b="1" lang="hi-IN" sz="3600" spc="-1" strike="noStrike">
                <a:solidFill>
                  <a:srgbClr val="cc0000"/>
                </a:solidFill>
                <a:latin typeface="Angsana New"/>
              </a:rPr>
              <a:t>ตามประมวลกฎหมายอาญา </a:t>
            </a:r>
            <a:r>
              <a:rPr b="1" lang="en-US" sz="3600" spc="-1" strike="noStrike">
                <a:solidFill>
                  <a:srgbClr val="cc0000"/>
                </a:solidFill>
                <a:latin typeface="Angsana New"/>
              </a:rPr>
              <a:t>(</a:t>
            </a:r>
            <a:r>
              <a:rPr b="1" lang="hi-IN" sz="3600" spc="-1" strike="noStrike">
                <a:solidFill>
                  <a:srgbClr val="cc0000"/>
                </a:solidFill>
                <a:latin typeface="Angsana New"/>
              </a:rPr>
              <a:t>แก้ไขเพิ่มเติม</a:t>
            </a:r>
            <a:r>
              <a:rPr b="1" lang="en-US" sz="3600" spc="-1" strike="noStrike">
                <a:solidFill>
                  <a:srgbClr val="cc0000"/>
                </a:solidFill>
                <a:latin typeface="Angsana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464560" y="-76320"/>
            <a:ext cx="444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ngsana New"/>
              </a:rPr>
              <a:t>     </a:t>
            </a:r>
            <a:r>
              <a:rPr b="1" lang="th-TH" sz="4800" spc="-1" strike="noStrike">
                <a:solidFill>
                  <a:srgbClr val="cc0000"/>
                </a:solidFill>
                <a:latin typeface="Angsana New"/>
              </a:rPr>
              <a:t>เงินสกปรก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ngsana New"/>
              </a:rPr>
              <a:t>DIRTY MONEY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981000"/>
            <a:ext cx="76964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1. 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ยาเสพติ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2. 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การค้าทางเพศ หญิงและเด็ก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3. 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ฉ้อโกงประชาช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4. 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ผู้บริหารสถาบันการเงินทุจริต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5. 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ใช้ตำแหน่งหน้าที่ราชการ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6. 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อั้งยี่และซ่องโจร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7. 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ศุลกากร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8. 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การก่อการร้า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40960" y="0"/>
            <a:ext cx="548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 u="sng">
                <a:solidFill>
                  <a:srgbClr val="ff6600"/>
                </a:solidFill>
                <a:uFillTx/>
                <a:latin typeface="Angsana New"/>
              </a:rPr>
              <a:t>ความผิดฐานฟอกเงิ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1066680"/>
            <a:ext cx="3124080" cy="762120"/>
          </a:xfrm>
          <a:custGeom>
            <a:avLst/>
            <a:gdLst>
              <a:gd name="textAreaLeft" fmla="*/ 686880 w 3124080"/>
              <a:gd name="textAreaRight" fmla="*/ 2437200 w 3124080"/>
              <a:gd name="textAreaTop" fmla="*/ 167400 h 762120"/>
              <a:gd name="textAreaBottom" fmla="*/ 5947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66"/>
                </a:solidFill>
                <a:latin typeface="Angsana New"/>
              </a:rPr>
              <a:t>ผู้ใดกระทำผิด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9240" y="838080"/>
            <a:ext cx="3057480" cy="1371600"/>
            <a:chOff x="219240" y="838080"/>
            <a:chExt cx="3057480" cy="1371600"/>
          </a:xfrm>
        </p:grpSpPr>
        <p:sp>
          <p:nvSpPr>
            <p:cNvPr id="94" name=""/>
            <p:cNvSpPr/>
            <p:nvPr/>
          </p:nvSpPr>
          <p:spPr>
            <a:xfrm>
              <a:off x="685800" y="838080"/>
              <a:ext cx="2590920" cy="1371600"/>
            </a:xfrm>
            <a:prstGeom prst="rightArrowCallout">
              <a:avLst>
                <a:gd name="adj1" fmla="val 25002"/>
                <a:gd name="adj2" fmla="val 25000"/>
                <a:gd name="adj3" fmla="val 31483"/>
                <a:gd name="adj4" fmla="val 66667"/>
              </a:avLst>
            </a:prstGeom>
            <a:gradFill rotWithShape="0">
              <a:gsLst>
                <a:gs pos="0">
                  <a:srgbClr val="0000cc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9240" y="1219320"/>
              <a:ext cx="287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3300"/>
                  </a:solidFill>
                  <a:latin typeface="Angsana New"/>
                </a:rPr>
                <a:t>ในราชอาณาจักร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715000" y="838080"/>
            <a:ext cx="2619360" cy="1450080"/>
            <a:chOff x="5715000" y="838080"/>
            <a:chExt cx="2619360" cy="1450080"/>
          </a:xfrm>
        </p:grpSpPr>
        <p:sp>
          <p:nvSpPr>
            <p:cNvPr id="97" name=""/>
            <p:cNvSpPr/>
            <p:nvPr/>
          </p:nvSpPr>
          <p:spPr>
            <a:xfrm>
              <a:off x="5715000" y="838080"/>
              <a:ext cx="2590920" cy="1371600"/>
            </a:xfrm>
            <a:prstGeom prst="leftArrowCallout">
              <a:avLst>
                <a:gd name="adj1" fmla="val 25002"/>
                <a:gd name="adj2" fmla="val 25000"/>
                <a:gd name="adj3" fmla="val 31483"/>
                <a:gd name="adj4" fmla="val 6667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72200" y="1219320"/>
              <a:ext cx="2162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3300"/>
                  </a:solidFill>
                  <a:latin typeface="Angsana New"/>
                </a:rPr>
                <a:t>นอกราชอาณาจักร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-58680" y="2590920"/>
            <a:ext cx="10153800" cy="685800"/>
            <a:chOff x="-58680" y="2590920"/>
            <a:chExt cx="10153800" cy="685800"/>
          </a:xfrm>
        </p:grpSpPr>
        <p:sp>
          <p:nvSpPr>
            <p:cNvPr id="100" name=""/>
            <p:cNvSpPr/>
            <p:nvPr/>
          </p:nvSpPr>
          <p:spPr>
            <a:xfrm>
              <a:off x="1219320" y="2590920"/>
              <a:ext cx="7619760" cy="6858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9933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58680" y="2667240"/>
              <a:ext cx="1015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</a:rPr>
                <a:t>โอน  รับโอน หรือเปลี่ยนสภาพ  ทรัพย์สินที่เกี่ยวกับการกระทำความผิด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38080" y="441972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66680" y="4876920"/>
            <a:ext cx="8075160" cy="685800"/>
            <a:chOff x="1066680" y="4876920"/>
            <a:chExt cx="8075160" cy="685800"/>
          </a:xfrm>
        </p:grpSpPr>
        <p:sp>
          <p:nvSpPr>
            <p:cNvPr id="104" name=""/>
            <p:cNvSpPr/>
            <p:nvPr/>
          </p:nvSpPr>
          <p:spPr>
            <a:xfrm>
              <a:off x="1066680" y="4876920"/>
              <a:ext cx="7772400" cy="6858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33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18520" y="4906800"/>
              <a:ext cx="802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กระทำด้วยประการใด ๆ  เพื่อปกปิด หรืออำพราง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447920" y="3627360"/>
            <a:ext cx="3681360" cy="1800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ซุกซ่อน             ปกปิดแหล่งที่มาขอ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                             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ทรัพย์สิน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4840560" y="3559320"/>
            <a:ext cx="45576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ช่วยเหลือผู้อื่นไม่ว่าก่อน ขณะ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หรือหลังการกระทำความผิด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มิให้ต้องรับโทษ หรือ รับโทษน้อยลง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352680"/>
            <a:ext cx="5181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33526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352680"/>
            <a:ext cx="0" cy="268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3352680"/>
            <a:ext cx="0" cy="198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0" cy="75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276840" y="5808600"/>
            <a:ext cx="9195120" cy="94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ลักษณะที่แท้จริง  การได้มา  แหล่งที่ตั้ง  การจำหน่าย  การโอน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การได้สิทธิใดๆ  ซึ่งทรัพย์สินที่เกี่ยวกับการกระทำความผิ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556272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280" y="2971800"/>
            <a:ext cx="1295640" cy="2362320"/>
            <a:chOff x="152280" y="2971800"/>
            <a:chExt cx="1295640" cy="2362320"/>
          </a:xfrm>
        </p:grpSpPr>
        <p:grpSp>
          <p:nvGrpSpPr>
            <p:cNvPr id="116" name=""/>
            <p:cNvGrpSpPr/>
            <p:nvPr/>
          </p:nvGrpSpPr>
          <p:grpSpPr>
            <a:xfrm>
              <a:off x="762120" y="2971800"/>
              <a:ext cx="380880" cy="2362320"/>
              <a:chOff x="762120" y="2971800"/>
              <a:chExt cx="380880" cy="2362320"/>
            </a:xfrm>
          </p:grpSpPr>
          <p:sp>
            <p:nvSpPr>
              <p:cNvPr id="117" name=""/>
              <p:cNvSpPr/>
              <p:nvPr/>
            </p:nvSpPr>
            <p:spPr>
              <a:xfrm>
                <a:off x="762120" y="2971800"/>
                <a:ext cx="0" cy="23623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2120" y="5334120"/>
                <a:ext cx="2286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120" y="2971800"/>
                <a:ext cx="38088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52280" y="3581280"/>
              <a:ext cx="1295640" cy="9144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808080"/>
                  </a:solidFill>
                  <a:latin typeface="Angsana New"/>
                </a:rPr>
                <a:t>หรือ</a:t>
              </a:r>
              <a:endParaRPr b="0" lang="en-US" sz="4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655320" y="0"/>
            <a:ext cx="29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มาตรา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แ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6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75"/>
                            </p:stCondLst>
                            <p:childTnLst>
                              <p:par>
                                <p:cTn id="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775"/>
                            </p:stCondLst>
                            <p:childTnLst>
                              <p:par>
                                <p:cTn id="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275"/>
                            </p:stCondLst>
                            <p:childTnLst>
                              <p:par>
                                <p:cTn id="4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2514600" y="152280"/>
            <a:ext cx="4038480" cy="914400"/>
            <a:chOff x="2514600" y="152280"/>
            <a:chExt cx="4038480" cy="914400"/>
          </a:xfrm>
        </p:grpSpPr>
        <p:sp>
          <p:nvSpPr>
            <p:cNvPr id="123" name=""/>
            <p:cNvSpPr/>
            <p:nvPr/>
          </p:nvSpPr>
          <p:spPr>
            <a:xfrm>
              <a:off x="2514600" y="152280"/>
              <a:ext cx="4038480" cy="91440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34360" y="152280"/>
              <a:ext cx="309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 u="sng">
                  <a:solidFill>
                    <a:srgbClr val="660066"/>
                  </a:solidFill>
                  <a:uFillTx/>
                  <a:latin typeface="Angsana New"/>
                </a:rPr>
                <a:t>ฐานความผิด</a:t>
              </a:r>
              <a:endParaRPr b="0" lang="en-US" sz="4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47960" y="1066680"/>
            <a:ext cx="3673800" cy="1068840"/>
            <a:chOff x="2847960" y="1066680"/>
            <a:chExt cx="3673800" cy="1068840"/>
          </a:xfrm>
        </p:grpSpPr>
        <p:sp>
          <p:nvSpPr>
            <p:cNvPr id="126" name=""/>
            <p:cNvSpPr/>
            <p:nvPr/>
          </p:nvSpPr>
          <p:spPr>
            <a:xfrm>
              <a:off x="3200400" y="1143000"/>
              <a:ext cx="281952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465e"/>
                </a:gs>
                <a:gs pos="50000">
                  <a:srgbClr val="ff99cc"/>
                </a:gs>
                <a:gs pos="100000">
                  <a:srgbClr val="754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47960" y="1066680"/>
              <a:ext cx="3673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กระทำความผิดสำเร็จ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</a:rPr>
                <a:t>        </a:t>
              </a: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มาตรา  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9880" y="2209680"/>
            <a:ext cx="5029200" cy="990720"/>
            <a:chOff x="3809880" y="2209680"/>
            <a:chExt cx="5029200" cy="990720"/>
          </a:xfrm>
        </p:grpSpPr>
        <p:sp>
          <p:nvSpPr>
            <p:cNvPr id="129" name=""/>
            <p:cNvSpPr/>
            <p:nvPr/>
          </p:nvSpPr>
          <p:spPr>
            <a:xfrm>
              <a:off x="5715000" y="2209680"/>
              <a:ext cx="312408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9b900"/>
                </a:gs>
                <a:gs pos="50000">
                  <a:srgbClr val="ffff00"/>
                </a:gs>
                <a:gs pos="100000">
                  <a:srgbClr val="b9b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รับโทษเช่นเดียวกับตัวการ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มาตรา  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9880" y="2362320"/>
              <a:ext cx="1676520" cy="685800"/>
            </a:xfrm>
            <a:custGeom>
              <a:avLst/>
              <a:gdLst>
                <a:gd name="textAreaLeft" fmla="*/ 261720 w 1676520"/>
                <a:gd name="textAreaRight" fmla="*/ 1467000 w 167652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28600" y="1828800"/>
            <a:ext cx="3352680" cy="1600200"/>
          </a:xfrm>
          <a:prstGeom prst="ellipse">
            <a:avLst/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สนับสนุน ช่วยเหลือ จัดหา หร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ให้ทรัพย์สินแก่ผู้กระทำความผิ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09880" y="3505320"/>
            <a:ext cx="5029200" cy="1523880"/>
            <a:chOff x="3809880" y="3505320"/>
            <a:chExt cx="5029200" cy="1523880"/>
          </a:xfrm>
        </p:grpSpPr>
        <p:sp>
          <p:nvSpPr>
            <p:cNvPr id="133" name=""/>
            <p:cNvSpPr/>
            <p:nvPr/>
          </p:nvSpPr>
          <p:spPr>
            <a:xfrm>
              <a:off x="5715000" y="3505320"/>
              <a:ext cx="3124080" cy="152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รับโทษเช่นเดียวกับ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ผู้กระทำความผิดสำเร็จ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มาตรา  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809880"/>
              <a:ext cx="1676520" cy="685800"/>
            </a:xfrm>
            <a:custGeom>
              <a:avLst/>
              <a:gdLst>
                <a:gd name="textAreaLeft" fmla="*/ 261720 w 1676520"/>
                <a:gd name="textAreaRight" fmla="*/ 1467000 w 167652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-205560" y="3505320"/>
            <a:ext cx="4092840" cy="1523880"/>
            <a:chOff x="-205560" y="3505320"/>
            <a:chExt cx="4092840" cy="1523880"/>
          </a:xfrm>
        </p:grpSpPr>
        <p:sp>
          <p:nvSpPr>
            <p:cNvPr id="136" name=""/>
            <p:cNvSpPr/>
            <p:nvPr/>
          </p:nvSpPr>
          <p:spPr>
            <a:xfrm>
              <a:off x="304920" y="3505320"/>
              <a:ext cx="3124080" cy="1523880"/>
            </a:xfrm>
            <a:prstGeom prst="ellipse">
              <a:avLst/>
            </a:prstGeom>
            <a:gradFill rotWithShape="0">
              <a:gsLst>
                <a:gs pos="0">
                  <a:srgbClr val="5e4675"/>
                </a:gs>
                <a:gs pos="50000">
                  <a:srgbClr val="cc99ff"/>
                </a:gs>
                <a:gs pos="100000">
                  <a:srgbClr val="5e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205560" y="3962520"/>
              <a:ext cx="409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พยายามกระทำความผิด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09880" y="5410080"/>
            <a:ext cx="5029200" cy="990720"/>
            <a:chOff x="3809880" y="5410080"/>
            <a:chExt cx="5029200" cy="990720"/>
          </a:xfrm>
        </p:grpSpPr>
        <p:sp>
          <p:nvSpPr>
            <p:cNvPr id="139" name=""/>
            <p:cNvSpPr/>
            <p:nvPr/>
          </p:nvSpPr>
          <p:spPr>
            <a:xfrm>
              <a:off x="5715000" y="5410080"/>
              <a:ext cx="312408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75e17"/>
                </a:gs>
                <a:gs pos="50000">
                  <a:srgbClr val="33cc33"/>
                </a:gs>
                <a:gs pos="100000">
                  <a:srgbClr val="175e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รับโทษกึ่งหนึ่ง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มาตรา  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9880" y="5486400"/>
              <a:ext cx="1600200" cy="685800"/>
            </a:xfrm>
            <a:custGeom>
              <a:avLst/>
              <a:gdLst>
                <a:gd name="textAreaLeft" fmla="*/ 249840 w 1600200"/>
                <a:gd name="textAreaRight" fmla="*/ 1400400 w 16002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-320400" y="5105520"/>
            <a:ext cx="4377960" cy="1523880"/>
            <a:chOff x="-320400" y="5105520"/>
            <a:chExt cx="4377960" cy="1523880"/>
          </a:xfrm>
        </p:grpSpPr>
        <p:sp>
          <p:nvSpPr>
            <p:cNvPr id="142" name=""/>
            <p:cNvSpPr/>
            <p:nvPr/>
          </p:nvSpPr>
          <p:spPr>
            <a:xfrm>
              <a:off x="380880" y="5105520"/>
              <a:ext cx="3124080" cy="1523880"/>
            </a:xfrm>
            <a:prstGeom prst="ellipse">
              <a:avLst/>
            </a:prstGeom>
            <a:gradFill rotWithShape="0">
              <a:gsLst>
                <a:gs pos="0">
                  <a:srgbClr val="800080"/>
                </a:gs>
                <a:gs pos="50000">
                  <a:srgbClr val="9933ff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320400" y="556272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ngsana New"/>
                </a:rPr>
                <a:t>สมคบเพื่อกระทำความผิด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004440" y="110160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โทษ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>
            <a:off x="6350040" y="68580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จำคุก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1-10 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ปี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5894640" y="1523880"/>
            <a:ext cx="39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ปรับ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20,000-200,00 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cc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380880"/>
            <a:ext cx="7315200" cy="12193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91658" dir="338234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" name=""/>
          <p:cNvSpPr/>
          <p:nvPr/>
        </p:nvSpPr>
        <p:spPr>
          <a:xfrm>
            <a:off x="1158840" y="316080"/>
            <a:ext cx="748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cc"/>
                </a:solidFill>
                <a:latin typeface="Times New Roman"/>
                <a:cs typeface="FreesiaUPC"/>
              </a:rPr>
              <a:t>การดำเนินคดีอาญาตาม พ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FreesiaUPC"/>
              </a:rPr>
              <a:t>.</a:t>
            </a:r>
            <a:r>
              <a:rPr b="1" lang="hi-IN" sz="4000" spc="-1" strike="noStrike">
                <a:solidFill>
                  <a:srgbClr val="3333cc"/>
                </a:solidFill>
                <a:latin typeface="Times New Roman"/>
                <a:cs typeface="FreesiaUPC"/>
              </a:rPr>
              <a:t>ร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FreesiaUPC"/>
              </a:rPr>
              <a:t>.</a:t>
            </a:r>
            <a:r>
              <a:rPr b="1" lang="hi-IN" sz="4000" spc="-1" strike="noStrike">
                <a:solidFill>
                  <a:srgbClr val="3333cc"/>
                </a:solidFill>
                <a:latin typeface="Times New Roman"/>
                <a:cs typeface="FreesiaUPC"/>
              </a:rPr>
              <a:t>บ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FreesiaUPC"/>
              </a:rPr>
              <a:t>.</a:t>
            </a:r>
            <a:r>
              <a:rPr b="1" lang="hi-IN" sz="4000" spc="-1" strike="noStrike">
                <a:solidFill>
                  <a:srgbClr val="3333cc"/>
                </a:solidFill>
                <a:latin typeface="Times New Roman"/>
                <a:cs typeface="FreesiaUPC"/>
              </a:rPr>
              <a:t>ป้องกันและ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cc"/>
                </a:solidFill>
                <a:latin typeface="Times New Roman"/>
                <a:cs typeface="FreesiaUPC"/>
              </a:rPr>
              <a:t>ปราบปรามการฟอกเงิน พ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FreesiaUPC"/>
              </a:rPr>
              <a:t>.</a:t>
            </a:r>
            <a:r>
              <a:rPr b="1" lang="hi-IN" sz="4000" spc="-1" strike="noStrike">
                <a:solidFill>
                  <a:srgbClr val="3333cc"/>
                </a:solidFill>
                <a:latin typeface="Times New Roman"/>
                <a:cs typeface="FreesiaUPC"/>
              </a:rPr>
              <a:t>ศ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FreesiaUPC"/>
              </a:rPr>
              <a:t>.  2542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"/>
          <p:cNvSpPr/>
          <p:nvPr/>
        </p:nvSpPr>
        <p:spPr>
          <a:xfrm>
            <a:off x="727200" y="210960"/>
            <a:ext cx="7619760" cy="1524240"/>
          </a:xfrm>
          <a:prstGeom prst="rect">
            <a:avLst/>
          </a:prstGeom>
          <a:noFill/>
          <a:ln w="57240">
            <a:solidFill>
              <a:srgbClr val="ff99cc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286000"/>
            <a:ext cx="8839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FreesiaUPC"/>
              </a:rPr>
              <a:t>1.  </a:t>
            </a: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การดำเนินคดีอาญาในความผิดมูลฐา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FreesiaUPC"/>
              </a:rPr>
              <a:t>2.  </a:t>
            </a: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การดำเนินคดีอาญากับผู้ที่ฟอกเงิน หรือผู้สนับสนุน ช่วย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FreesiaUPC"/>
              </a:rPr>
              <a:t>     </a:t>
            </a: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เหลือการกระทำความผิด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FreesiaUPC"/>
              </a:rPr>
              <a:t>3.  </a:t>
            </a: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การดำเนินคดีอาญากับสถาบันการเงิน ผู้มีหน้าที่ตามที่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FreesiaUPC"/>
              </a:rPr>
              <a:t>    </a:t>
            </a: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กฎหมายกำหนด หรือผู้เกี่ยวข้องฝ่าฝืน หรือไม่ปฏิบัติ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FreesiaUPC"/>
              </a:rPr>
              <a:t>    </a:t>
            </a: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ตามที่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FreesiaUPC"/>
              </a:rPr>
              <a:t>.</a:t>
            </a: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FreesiaUPC"/>
              </a:rPr>
              <a:t>.</a:t>
            </a: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FreesiaUPC"/>
              </a:rPr>
              <a:t>.</a:t>
            </a: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ป้องกันและปราบปรามการฟอกเงิน 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FreesiaUPC"/>
              </a:rPr>
              <a:t>.</a:t>
            </a: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FreesiaUPC"/>
              </a:rPr>
              <a:t>. 254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ordiaUPC"/>
              </a:rPr>
              <a:t>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ngsana New"/>
              </a:rPr>
              <a:t>หน้าที่ของสถาบันการเงินและผู้เกี่ยวข้อง</a:t>
            </a:r>
            <a:br>
              <a:rPr sz="6000"/>
            </a:br>
            <a:r>
              <a:rPr b="1" i="1" lang="en-US" sz="4400" spc="-1" strike="noStrike">
                <a:solidFill>
                  <a:srgbClr val="800080"/>
                </a:solidFill>
                <a:latin typeface="Angsana New"/>
              </a:rPr>
              <a:t>(</a:t>
            </a:r>
            <a:r>
              <a:rPr b="1" i="1" lang="hi-IN" sz="4400" spc="-1" strike="noStrike">
                <a:solidFill>
                  <a:srgbClr val="800080"/>
                </a:solidFill>
                <a:latin typeface="Angsana New"/>
              </a:rPr>
              <a:t>ผู้รายงาน</a:t>
            </a:r>
            <a:r>
              <a:rPr b="1" i="1" lang="en-US" sz="4400" spc="-1" strike="noStrike">
                <a:solidFill>
                  <a:srgbClr val="800080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901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66"/>
                </a:solidFill>
                <a:latin typeface="Angsana New"/>
              </a:rPr>
              <a:t>ธนาคารพานิชย์ ธนาคารตามที่กฎหมายจัดตั้งขึ้นโดยเฉพาะ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50200" indent="-250200">
              <a:spcBef>
                <a:spcPts val="901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66"/>
                </a:solidFill>
                <a:latin typeface="Angsana New"/>
              </a:rPr>
              <a:t>บริษัทเงินทุน บริษัทเครดิตฟองซิเอร์ ธุรกิจหลักทรัพย์ ธุรกิจเครดิตฟองซิเอร์ และบริษัทหลักทรัพย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50200" indent="-250200">
              <a:spcBef>
                <a:spcPts val="901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66"/>
                </a:solidFill>
                <a:latin typeface="Angsana New"/>
              </a:rPr>
              <a:t>บรรษัทเงินทุนอุตสาหกรรม บรรษัทเงินทุนอุตสาหกรรมขนาดย่อ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50200" indent="-250200">
              <a:spcBef>
                <a:spcPts val="901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66"/>
                </a:solidFill>
                <a:latin typeface="Angsana New"/>
              </a:rPr>
              <a:t>บริษัทประกันชีวิต บริษัทประกันวินาศภั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50200" indent="-250200">
              <a:spcBef>
                <a:spcPts val="901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66"/>
                </a:solidFill>
                <a:latin typeface="Angsana New"/>
              </a:rPr>
              <a:t>สหกรณ์ออมทรัพย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50200" indent="-250200">
              <a:spcBef>
                <a:spcPts val="901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66"/>
                </a:solidFill>
                <a:latin typeface="Angsana New"/>
              </a:rPr>
              <a:t>นิติบุคคลที่ดำเนินธุรกิจอื่นที่เกี่ยวข้องกับการเงิ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ngsana New"/>
              </a:rPr>
              <a:t>หน้าที่ของสถาบันการเงินและผู้เกี่ยวข้อง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349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66"/>
                </a:solidFill>
                <a:latin typeface="Angsana New"/>
              </a:rPr>
              <a:t>รายงานธุรกรรมเงินสด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308520" indent="-308520">
              <a:spcBef>
                <a:spcPts val="1349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66"/>
                </a:solidFill>
                <a:latin typeface="Angsana New"/>
              </a:rPr>
              <a:t>รายงานธุรกรรมเกี่ยวกับทรัพย์สิ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308520" indent="-308520">
              <a:spcBef>
                <a:spcPts val="1349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66"/>
                </a:solidFill>
                <a:latin typeface="Angsana New"/>
              </a:rPr>
              <a:t>รายงานธุรกรรมที่มีเหตุอันควรสงสัย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ngsana New"/>
              </a:rPr>
              <a:t>หน้าที่ของสถาบันการเงินและผู้เกี่ยวข้อง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หากปรากฏภายหลังว่ามีเหตุอันควรเชื่อได้ว่าธุรกรรมกระทำไปแล้วโดยไม่ได้รายงานเป็นธุรกรรมที่ต้องรายงา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-322200">
              <a:spcBef>
                <a:spcPts val="1199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ให้รายงานโดยไม่ชักช้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ngsana New"/>
              </a:rPr>
              <a:t>หน้าที่ของสถาบันการเงินและผู้เกี่ยวข้อง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Angsana New"/>
              </a:rPr>
              <a:t>(</a:t>
            </a:r>
            <a:r>
              <a:rPr b="1" lang="hi-IN" sz="6000" spc="-1" strike="noStrike">
                <a:solidFill>
                  <a:srgbClr val="cc0000"/>
                </a:solidFill>
                <a:latin typeface="Angsana New"/>
              </a:rPr>
              <a:t>สำนักงานที่ดิน</a:t>
            </a:r>
            <a:r>
              <a:rPr b="1" lang="en-US" sz="6000" spc="-1" strike="noStrike">
                <a:solidFill>
                  <a:srgbClr val="cc0000"/>
                </a:solidFill>
                <a:latin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99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จดทะเบียนสิทธิ</a:t>
            </a: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/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นิติกรรมเมื่อมีการชำระเป็นเงินส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-291600">
              <a:spcBef>
                <a:spcPts val="1199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เมื่ออสังหาริมทรัพย์มีมูลค่าตามราคาประเมินเกินกว่าที่กำหนด เว้นแต่เป็นการโอนทางมรดก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-291600">
              <a:spcBef>
                <a:spcPts val="1199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เมื่อเป็นธุรกรรมที่มีเหตุอันควรสงสั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676520"/>
            <a:ext cx="7620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ngsana New"/>
              </a:rPr>
              <a:t>หมายถึง          </a:t>
            </a:r>
            <a:r>
              <a:rPr b="1" lang="hi-IN" sz="3600" spc="-1" strike="noStrike">
                <a:solidFill>
                  <a:srgbClr val="3333cc"/>
                </a:solidFill>
                <a:latin typeface="Angsana New"/>
              </a:rPr>
              <a:t>การนำเงินหรือทรัพย์สินที่ได้มาจากการกระทำความผิด หรือได้มาโดยไม่ชอบด้วยกฎหมาย  มาเปลี่ยนสภาพให้เป็นเงินหรือทรัพย์สินที่ได้มาอย่างถูกต้อง    หรือเรียกได้ว่า กระบวนการทำ   “เงินสกปรก”    ให้เปลี่ยนสภาพเป็น    “เงินสะอาด”  หรือ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ngsana New"/>
              </a:rPr>
              <a:t>หมายถึง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ngsana New"/>
              </a:rPr>
              <a:t>         </a:t>
            </a:r>
            <a:r>
              <a:rPr b="1" lang="hi-IN" sz="3600" spc="-1" strike="noStrike">
                <a:solidFill>
                  <a:srgbClr val="3333cc"/>
                </a:solidFill>
                <a:latin typeface="Angsana New"/>
              </a:rPr>
              <a:t>การเปลี่ยนสภาพเงิน หรือทรัพย์สินที่ได้มาโด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cc"/>
                </a:solidFill>
                <a:latin typeface="Angsana New"/>
              </a:rPr>
              <a:t>ผิดกฎหมาย ให้ดูเสมือนว่าได้มาโดยชอบด้วยกฎหมา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>
            <a:off x="2270160" y="458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916000" y="457200"/>
            <a:ext cx="3018240" cy="764280"/>
            <a:chOff x="2916000" y="457200"/>
            <a:chExt cx="3018240" cy="764280"/>
          </a:xfrm>
        </p:grpSpPr>
        <p:sp>
          <p:nvSpPr>
            <p:cNvPr id="46" name=""/>
            <p:cNvSpPr/>
            <p:nvPr/>
          </p:nvSpPr>
          <p:spPr>
            <a:xfrm>
              <a:off x="3048120" y="533520"/>
              <a:ext cx="2743200" cy="68580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16000" y="457200"/>
              <a:ext cx="301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ffffff"/>
                  </a:solidFill>
                  <a:latin typeface="Angsana New"/>
                </a:rPr>
                <a:t>การฟอกเงิน</a:t>
              </a:r>
              <a:endParaRPr b="0" lang="en-US" sz="4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ngsana New"/>
              </a:rPr>
              <a:t>หน้าที่ของสถาบันการเงินและผู้เกี่ยวข้อง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Angsana New"/>
              </a:rPr>
              <a:t>(</a:t>
            </a:r>
            <a:r>
              <a:rPr b="1" lang="hi-IN" sz="6000" spc="-1" strike="noStrike">
                <a:solidFill>
                  <a:srgbClr val="cc0000"/>
                </a:solidFill>
                <a:latin typeface="Angsana New"/>
              </a:rPr>
              <a:t>ผู้ประกอบอาชีพเกี่ยวกับการลงทุน</a:t>
            </a:r>
            <a:r>
              <a:rPr b="1" lang="en-US" sz="6000" spc="-1" strike="noStrike">
                <a:solidFill>
                  <a:srgbClr val="cc0000"/>
                </a:solidFill>
                <a:latin typeface="Angsana New"/>
              </a:rPr>
              <a:t>)</a:t>
            </a:r>
            <a:br>
              <a:rPr sz="6000"/>
            </a:br>
            <a:r>
              <a:rPr b="1" i="1" lang="hi-IN" sz="4800" spc="-1" strike="noStrike">
                <a:solidFill>
                  <a:srgbClr val="660066"/>
                </a:solidFill>
                <a:latin typeface="Angsana New"/>
              </a:rPr>
              <a:t>รายงานธุรกรรมต้องสงสั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66"/>
                </a:solidFill>
                <a:latin typeface="Angsana New"/>
              </a:rPr>
              <a:t>การดำเนินการในการทำธุรกรรมเกี่ยวกับการลงทุ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-301680">
              <a:spcBef>
                <a:spcPts val="1001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66"/>
                </a:solidFill>
                <a:latin typeface="Angsana New"/>
              </a:rPr>
              <a:t>การแนะนำในการทำธุรกรรมเกี่ยวกับการลงทุ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-301680">
              <a:spcBef>
                <a:spcPts val="1001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66"/>
                </a:solidFill>
                <a:latin typeface="Angsana New"/>
              </a:rPr>
              <a:t>การดำเนินการในการทำธุรกรรมเกี่ยวกับการเคลื่อนย้าย          เงินลงทุ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-301680">
              <a:spcBef>
                <a:spcPts val="1001"/>
              </a:spcBef>
              <a:buClr>
                <a:srgbClr val="00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66"/>
                </a:solidFill>
                <a:latin typeface="Angsana New"/>
              </a:rPr>
              <a:t>การแนะนำในการทำธุรกรรมเกี่ยวกับการเคลื่อนย้ายเงินลงทุ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ngsana New"/>
              </a:rPr>
              <a:t>หน้าที่ของสถาบันการเงินและผู้เกี่ยวข้อง</a:t>
            </a:r>
            <a:br>
              <a:rPr sz="6000"/>
            </a:br>
            <a:r>
              <a:rPr b="1" i="1" lang="hi-IN" sz="4800" spc="-1" strike="noStrike">
                <a:solidFill>
                  <a:srgbClr val="660066"/>
                </a:solidFill>
                <a:latin typeface="Angsana New"/>
              </a:rPr>
              <a:t>วิธีการรายงา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99"/>
                </a:solidFill>
                <a:latin typeface="Angsana New"/>
              </a:rPr>
              <a:t>ตามแบบ ระยะเวลา หลักเกณฑ์ และวิธีการที่กำหนดในกฎกระทรว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99"/>
                </a:solidFill>
                <a:latin typeface="Angsana New"/>
              </a:rPr>
              <a:t>การรายงานโดยสุจริต ไม่ต้องรับผิ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ngsana New"/>
              </a:rPr>
              <a:t>หน้าที่ของสถาบันการเงินและผู้เกี่ยวข้อง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ngsana New"/>
              </a:rPr>
              <a:t>จัดให้ลูกค้าแสดงตนก่อนทำธุรกรรม                       เว้นแต่ได้แสดงตนไว้แล้ว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-301680">
              <a:spcBef>
                <a:spcPts val="1001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ngsana New"/>
              </a:rPr>
              <a:t>จัดให้ลูกค้าบันทึกข้อเท็จจริงเกี่ยวกับการทำธุรกรรม หากลูกค้าปฏิเสธ ให้สถาบันการเงินจัดทำเอ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-301680">
              <a:spcBef>
                <a:spcPts val="1001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ngsana New"/>
              </a:rPr>
              <a:t>จัดเก็บรักษารายละเอียดเกี่ยวกับการแสดงตน และบันทึกข้อเท็จจริ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ngsana New"/>
              </a:rPr>
              <a:t>หน้าที่ของสถาบันการเงินและผู้เกี่ยวข้อง</a:t>
            </a:r>
            <a:br>
              <a:rPr sz="6000"/>
            </a:br>
            <a:r>
              <a:rPr b="1" i="1" lang="hi-IN" sz="4400" spc="-1" strike="noStrike">
                <a:solidFill>
                  <a:srgbClr val="660066"/>
                </a:solidFill>
                <a:latin typeface="Angsana New"/>
              </a:rPr>
              <a:t>การเก็บรักษาข้อมูลการแสดงตน</a:t>
            </a:r>
            <a:r>
              <a:rPr b="1" i="1" lang="en-US" sz="4400" spc="-1" strike="noStrike">
                <a:solidFill>
                  <a:srgbClr val="660066"/>
                </a:solidFill>
                <a:latin typeface="Angsana New"/>
              </a:rPr>
              <a:t>/</a:t>
            </a:r>
            <a:r>
              <a:rPr b="1" i="1" lang="hi-IN" sz="4400" spc="-1" strike="noStrike">
                <a:solidFill>
                  <a:srgbClr val="660066"/>
                </a:solidFill>
                <a:latin typeface="Angsana New"/>
              </a:rPr>
              <a:t>บันทึกข้อเท็จจริง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gsana New"/>
              </a:rPr>
              <a:t>5 </a:t>
            </a:r>
            <a:r>
              <a:rPr b="1" lang="hi-IN" sz="4000" spc="-1" strike="noStrike">
                <a:solidFill>
                  <a:srgbClr val="000099"/>
                </a:solidFill>
                <a:latin typeface="Angsana New"/>
              </a:rPr>
              <a:t>ปีนับแต่วันที่มีการปิดบัญชี หรือ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-284400">
              <a:spcBef>
                <a:spcPts val="1001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gsana New"/>
              </a:rPr>
              <a:t>5 </a:t>
            </a:r>
            <a:r>
              <a:rPr b="1" lang="hi-IN" sz="4000" spc="-1" strike="noStrike">
                <a:solidFill>
                  <a:srgbClr val="000099"/>
                </a:solidFill>
                <a:latin typeface="Angsana New"/>
              </a:rPr>
              <a:t>ปีนับแต่วันที่ยุติความสัมพันธ์กับลูกค้า หรือ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-284400">
              <a:spcBef>
                <a:spcPts val="1001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gsana New"/>
              </a:rPr>
              <a:t>5 </a:t>
            </a:r>
            <a:r>
              <a:rPr b="1" lang="hi-IN" sz="4000" spc="-1" strike="noStrike">
                <a:solidFill>
                  <a:srgbClr val="000099"/>
                </a:solidFill>
                <a:latin typeface="Angsana New"/>
              </a:rPr>
              <a:t>ปีนับแต่ได้มีการทำธุรกรรมนั้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-284400">
              <a:spcBef>
                <a:spcPts val="1001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ngsana New"/>
              </a:rPr>
              <a:t>แล้วแต่ว่ากำหนดระยะเวลาใดจะยาวกว่า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4400" indent="-284400">
              <a:spcBef>
                <a:spcPts val="1001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ngsana New"/>
              </a:rPr>
              <a:t>เว้นแต่จะได้รับแจ้งเป็นหนังสือจากพนักงานเจ้าหน้าที่ให้ปฏิบัติเป็นอย่างอื่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cc0000"/>
                </a:solidFill>
                <a:latin typeface="Angsana New"/>
              </a:rPr>
              <a:t>หน้าที่ของสถาบันการเงินและผู้เกี่ยวข้อง</a:t>
            </a:r>
            <a:br>
              <a:rPr sz="6600"/>
            </a:br>
            <a:r>
              <a:rPr b="1" i="1" lang="en-US" sz="4800" spc="-1" strike="noStrike">
                <a:solidFill>
                  <a:srgbClr val="800080"/>
                </a:solidFill>
                <a:latin typeface="Angsana New"/>
              </a:rPr>
              <a:t>(</a:t>
            </a:r>
            <a:r>
              <a:rPr b="1" i="1" lang="hi-IN" sz="4800" spc="-1" strike="noStrike">
                <a:solidFill>
                  <a:srgbClr val="800080"/>
                </a:solidFill>
                <a:latin typeface="Angsana New"/>
              </a:rPr>
              <a:t>บทกำหนดโทษนิติบุคคล</a:t>
            </a:r>
            <a:r>
              <a:rPr b="1" i="1" lang="en-US" sz="4800" spc="-1" strike="noStrike">
                <a:solidFill>
                  <a:srgbClr val="800080"/>
                </a:solidFill>
                <a:latin typeface="Angsana New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100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99"/>
                </a:solidFill>
                <a:latin typeface="Angsana New"/>
              </a:rPr>
              <a:t>นิติบุคคลกระทำความผิดฐานฟอกเงิน ต้องระวางโทษ ปรับตั้งแต่สองแสนถึงหนึ่งล้านบาท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-281160">
              <a:spcBef>
                <a:spcPts val="1100"/>
              </a:spcBef>
              <a:buClr>
                <a:srgbClr val="0000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99"/>
                </a:solidFill>
                <a:latin typeface="Angsana New"/>
              </a:rPr>
              <a:t>กรรมการ ผู้จัดการ หรือบุคคลใดซึ่งรับผิดชอบในการดำเนินงานของนิติบุคคล กระทำความผิดต้องระวางโทษ จำคุกตั้งแต่หนึ่งปีถึงสิบปี หรือปรับตั้งแต่สองหมื่นบาท  ถึงสองแสนบาท หรือทั้งจำทั้งปรับ เว้นแต่จะพิสูจน์ได้ว่า   ตนมิได้มีส่วนในการกระทำความผิดของนิติบุคคลนั้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2153520" y="260280"/>
            <a:ext cx="1350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ccccff"/>
                </a:solidFill>
                <a:latin typeface="Angsana New"/>
              </a:rPr>
              <a:t>สรุปหน้าที่ของสถาบันการเงินและสำนักงานที่ดิ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>
            <a:off x="-1016640" y="2122560"/>
            <a:ext cx="1110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ngsana New"/>
              </a:rPr>
              <a:t>1. </a:t>
            </a:r>
            <a:r>
              <a:rPr b="0" lang="hi-IN" sz="4400" spc="-1" strike="noStrike">
                <a:solidFill>
                  <a:srgbClr val="ffffff"/>
                </a:solidFill>
                <a:latin typeface="Angsana New"/>
              </a:rPr>
              <a:t>ก่อนรับทำธุรกรรมต้องให้แสดงตนก่อนทุกครั้ง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ngsana New"/>
              </a:rPr>
              <a:t>2. </a:t>
            </a:r>
            <a:r>
              <a:rPr b="0" lang="hi-IN" sz="4400" spc="-1" strike="noStrike">
                <a:solidFill>
                  <a:srgbClr val="ffffff"/>
                </a:solidFill>
                <a:latin typeface="Angsana New"/>
              </a:rPr>
              <a:t>ต้องรายงานเมื่อ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Angsana New"/>
              </a:rPr>
              <a:t>2.1  </a:t>
            </a:r>
            <a:r>
              <a:rPr b="0" lang="hi-IN" sz="4400" spc="-1" strike="noStrike">
                <a:solidFill>
                  <a:srgbClr val="ffffff"/>
                </a:solidFill>
                <a:latin typeface="Angsana New"/>
              </a:rPr>
              <a:t>มีธุรกรรมที่มีจำนวนเกินกว่าที่กำหนดฯ หรือ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Angsana New"/>
              </a:rPr>
              <a:t>2.2  </a:t>
            </a:r>
            <a:r>
              <a:rPr b="0" lang="hi-IN" sz="4400" spc="-1" strike="noStrike">
                <a:solidFill>
                  <a:srgbClr val="ffffff"/>
                </a:solidFill>
                <a:latin typeface="Angsana New"/>
              </a:rPr>
              <a:t>มีธุรกรรมที่มี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i="1" lang="hi-IN" sz="4400" spc="-1" strike="noStrike" u="sng">
                <a:solidFill>
                  <a:srgbClr val="ffff00"/>
                </a:solidFill>
                <a:uFillTx/>
                <a:latin typeface="Angsana New"/>
              </a:rPr>
              <a:t>เหตุอันควรสงสัย</a:t>
            </a:r>
            <a:r>
              <a:rPr b="0" lang="en-US" sz="4400" spc="-1" strike="noStrike">
                <a:solidFill>
                  <a:srgbClr val="ffff00"/>
                </a:solidFill>
                <a:latin typeface="Angsana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43496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8644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76720" y="4038480"/>
            <a:ext cx="2286000" cy="1219320"/>
          </a:xfrm>
          <a:prstGeom prst="flowChartAlternateProcess">
            <a:avLst/>
          </a:prstGeom>
          <a:gradFill rotWithShape="0">
            <a:gsLst>
              <a:gs pos="0">
                <a:srgbClr val="99ff66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81185" dir="307803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93680"/>
            <a:ext cx="1295280" cy="685800"/>
          </a:xfrm>
          <a:prstGeom prst="flowChartAlternateProcess">
            <a:avLst/>
          </a:prstGeom>
          <a:gradFill rotWithShape="0">
            <a:gsLst>
              <a:gs pos="0">
                <a:srgbClr val="99ff66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81185" dir="307803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287280" y="1606680"/>
            <a:ext cx="1295280" cy="761760"/>
          </a:xfrm>
          <a:prstGeom prst="flowChartAlternateProcess">
            <a:avLst/>
          </a:prstGeom>
          <a:gradFill rotWithShape="0">
            <a:gsLst>
              <a:gs pos="0">
                <a:srgbClr val="99ff66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81185" dir="307803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046320"/>
            <a:ext cx="1295280" cy="685800"/>
          </a:xfrm>
          <a:prstGeom prst="flowChartAlternateProcess">
            <a:avLst/>
          </a:prstGeom>
          <a:gradFill rotWithShape="0">
            <a:gsLst>
              <a:gs pos="0">
                <a:srgbClr val="99ff66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81185" dir="307803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4429080"/>
            <a:ext cx="1067040" cy="685800"/>
          </a:xfrm>
          <a:prstGeom prst="flowChartAlternateProcess">
            <a:avLst/>
          </a:prstGeom>
          <a:gradFill rotWithShape="0">
            <a:gsLst>
              <a:gs pos="0">
                <a:srgbClr val="99ff66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81185" dir="307803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5562720"/>
            <a:ext cx="1752480" cy="1189080"/>
          </a:xfrm>
          <a:prstGeom prst="flowChartAlternateProcess">
            <a:avLst/>
          </a:prstGeom>
          <a:gradFill rotWithShape="0">
            <a:gsLst>
              <a:gs pos="0">
                <a:srgbClr val="99ff66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81185" dir="307803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5527800"/>
            <a:ext cx="1828800" cy="1218960"/>
          </a:xfrm>
          <a:prstGeom prst="flowChartAlternateProcess">
            <a:avLst/>
          </a:prstGeom>
          <a:gradFill rotWithShape="0">
            <a:gsLst>
              <a:gs pos="0">
                <a:srgbClr val="99ff66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81185" dir="307803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3886200"/>
            <a:ext cx="2362320" cy="838080"/>
          </a:xfrm>
          <a:prstGeom prst="flowChartAlternateProcess">
            <a:avLst/>
          </a:prstGeom>
          <a:gradFill rotWithShape="0">
            <a:gsLst>
              <a:gs pos="0">
                <a:srgbClr val="99ff66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81185" dir="307803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4" name=""/>
          <p:cNvSpPr/>
          <p:nvPr/>
        </p:nvSpPr>
        <p:spPr>
          <a:xfrm>
            <a:off x="6307200" y="1787400"/>
            <a:ext cx="2438280" cy="914400"/>
          </a:xfrm>
          <a:prstGeom prst="flowChartAlternateProcess">
            <a:avLst/>
          </a:prstGeom>
          <a:gradFill rotWithShape="0">
            <a:gsLst>
              <a:gs pos="0">
                <a:srgbClr val="99ff66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81185" dir="307803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4420800" y="838080"/>
            <a:ext cx="14914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ngsana New"/>
              </a:rPr>
              <a:t>รายงา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76212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419720" y="3505320"/>
            <a:ext cx="0" cy="357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7772400" y="2895480"/>
            <a:ext cx="0" cy="838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664080" y="6172200"/>
            <a:ext cx="1077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914400" y="99684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5299200" y="2259000"/>
            <a:ext cx="838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010280" y="3984480"/>
            <a:ext cx="138924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กระจายข่าว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257800" y="5638680"/>
            <a:ext cx="1066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ตำรวจ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81480" y="6400800"/>
            <a:ext cx="1219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ศุลกากร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176560" y="6305400"/>
            <a:ext cx="11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สอบสวน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228760" y="5637240"/>
            <a:ext cx="9716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สืบสวน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33920" y="4105440"/>
            <a:ext cx="1371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ยึดทรัพย์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6200" y="4791240"/>
            <a:ext cx="838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ทางแพ่ง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7120" y="456408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ผล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3157560"/>
            <a:ext cx="6858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อาญา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8600" y="1719360"/>
            <a:ext cx="85536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อัยการ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44400" y="380880"/>
            <a:ext cx="53352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ศาล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77120" y="1819440"/>
            <a:ext cx="21333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วิเคราะห์เชื่อมโยง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82104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914400" y="24382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07" name=""/>
          <p:cNvCxnSpPr/>
          <p:nvPr/>
        </p:nvCxnSpPr>
        <p:spPr>
          <a:xfrm rot="10800000">
            <a:off x="791280" y="5201640"/>
            <a:ext cx="915120" cy="1043640"/>
          </a:xfrm>
          <a:prstGeom prst="bentConnector2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8" name=""/>
          <p:cNvCxnSpPr/>
          <p:nvPr/>
        </p:nvCxnSpPr>
        <p:spPr>
          <a:xfrm rot="5400000">
            <a:off x="6600240" y="5038560"/>
            <a:ext cx="1413720" cy="1029600"/>
          </a:xfrm>
          <a:prstGeom prst="bentConnector2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9" name=""/>
          <p:cNvSpPr txBox="1"/>
          <p:nvPr/>
        </p:nvSpPr>
        <p:spPr>
          <a:xfrm>
            <a:off x="3809880" y="1447920"/>
            <a:ext cx="1219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Browallia New"/>
              </a:rPr>
              <a:t>ปปง</a:t>
            </a: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Browallia New"/>
              </a:rPr>
              <a:t>.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8120" y="152280"/>
            <a:ext cx="31240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100000">
                      <a:srgbClr val="ff99ff"/>
                    </a:gs>
                  </a:gsLst>
                  <a:lin ang="5400000"/>
                </a:gradFill>
                <a:latin typeface="Angsana New"/>
              </a:rPr>
              <a:t>ธุรกรรม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100000">
                    <a:srgbClr val="ff99ff"/>
                  </a:gs>
                </a:gsLst>
                <a:lin ang="5400000"/>
              </a:gradFill>
              <a:latin typeface="Angsana New"/>
              <a:ea typeface="Angsana New"/>
            </a:endParaRPr>
          </a:p>
        </p:txBody>
      </p:sp>
      <p:sp>
        <p:nvSpPr>
          <p:cNvPr id="211" name=""/>
          <p:cNvSpPr/>
          <p:nvPr/>
        </p:nvSpPr>
        <p:spPr>
          <a:xfrm>
            <a:off x="3749760" y="2276640"/>
            <a:ext cx="1314360" cy="11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76"/>
              </a:gs>
              <a:gs pos="50000">
                <a:srgbClr val="c0c0c0"/>
              </a:gs>
              <a:gs pos="100000">
                <a:srgbClr val="767676"/>
              </a:gs>
            </a:gsLst>
            <a:lin ang="5400000"/>
          </a:gra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2" name=""/>
          <p:cNvSpPr/>
          <p:nvPr/>
        </p:nvSpPr>
        <p:spPr>
          <a:xfrm>
            <a:off x="3498840" y="28861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ngsana New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124080" y="1295280"/>
            <a:ext cx="5791320" cy="3048840"/>
            <a:chOff x="3124080" y="1295280"/>
            <a:chExt cx="5791320" cy="3048840"/>
          </a:xfrm>
        </p:grpSpPr>
        <p:sp>
          <p:nvSpPr>
            <p:cNvPr id="216" name=""/>
            <p:cNvSpPr/>
            <p:nvPr/>
          </p:nvSpPr>
          <p:spPr>
            <a:xfrm>
              <a:off x="3200400" y="1371600"/>
              <a:ext cx="5715000" cy="19051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124080" y="1295280"/>
              <a:ext cx="5654880" cy="3048840"/>
              <a:chOff x="3124080" y="1295280"/>
              <a:chExt cx="5654880" cy="3048840"/>
            </a:xfrm>
          </p:grpSpPr>
          <p:sp>
            <p:nvSpPr>
              <p:cNvPr id="218" name=""/>
              <p:cNvSpPr/>
              <p:nvPr/>
            </p:nvSpPr>
            <p:spPr>
              <a:xfrm>
                <a:off x="3124080" y="1295280"/>
                <a:ext cx="5654880" cy="179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th-TH" sz="2800" spc="-1" strike="noStrike">
                    <a:solidFill>
                      <a:srgbClr val="ff66ff"/>
                    </a:solidFill>
                    <a:latin typeface="Times New Roman"/>
                    <a:cs typeface="CordiaUPC"/>
                  </a:rPr>
                  <a:t>คณะกรรมการป้องกันและปราบปรามการฟอกเงิน 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th-TH" sz="2800" spc="-1" strike="noStrike">
                    <a:solidFill>
                      <a:srgbClr val="ff66ff"/>
                    </a:solidFill>
                    <a:latin typeface="Times New Roman"/>
                    <a:ea typeface="CordiaUPC"/>
                  </a:rPr>
                  <a:t>                            </a:t>
                </a:r>
                <a:r>
                  <a:rPr b="1" lang="th-TH" sz="2800" spc="-1" strike="noStrike">
                    <a:solidFill>
                      <a:srgbClr val="ff66ff"/>
                    </a:solidFill>
                    <a:latin typeface="Times New Roman"/>
                    <a:ea typeface="CordiaUPC"/>
                  </a:rPr>
                  <a:t>(</a:t>
                </a:r>
                <a:r>
                  <a:rPr b="1" lang="th-TH" sz="2800" spc="-1" strike="noStrike">
                    <a:solidFill>
                      <a:srgbClr val="ff66ff"/>
                    </a:solidFill>
                    <a:latin typeface="Times New Roman"/>
                    <a:cs typeface="CordiaUPC"/>
                  </a:rPr>
                  <a:t>คปง</a:t>
                </a:r>
                <a:r>
                  <a:rPr b="1" lang="th-TH" sz="2800" spc="-1" strike="noStrike">
                    <a:solidFill>
                      <a:srgbClr val="ff66ff"/>
                    </a:solidFill>
                    <a:latin typeface="Times New Roman"/>
                    <a:ea typeface="CordiaUPC"/>
                  </a:rPr>
                  <a:t>.)</a:t>
                </a:r>
                <a:r>
                  <a:rPr b="1" lang="th-TH" sz="2800" spc="-1" strike="noStrike">
                    <a:solidFill>
                      <a:srgbClr val="ccecff"/>
                    </a:solidFill>
                    <a:latin typeface="Times New Roman"/>
                    <a:ea typeface="CordiaUPC"/>
                  </a:rPr>
                  <a:t>                                               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43400" y="2057040"/>
                <a:ext cx="373392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ccecff"/>
                  </a:buClr>
                  <a:buFont typeface="Times New Roman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  <a:ea typeface="CordiaUPC"/>
                  </a:rPr>
                  <a:t> </a:t>
                </a:r>
                <a:r>
                  <a:rPr b="1" lang="hi-IN" sz="2400" spc="-1" strike="noStrike">
                    <a:solidFill>
                      <a:srgbClr val="ccecff"/>
                    </a:solidFill>
                    <a:latin typeface="Times New Roman"/>
                    <a:cs typeface="CordiaUPC"/>
                  </a:rPr>
                  <a:t>กำหนดนโยบายและกำกับดูแล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100000"/>
                  </a:lnSpc>
                  <a:buClr>
                    <a:srgbClr val="000066"/>
                  </a:buClr>
                  <a:buFont typeface="Times New Roman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  <a:ea typeface="CordiaUPC"/>
                  </a:rPr>
                  <a:t> </a:t>
                </a:r>
                <a:r>
                  <a:rPr b="1" lang="hi-IN" sz="2400" spc="-1" strike="noStrike">
                    <a:solidFill>
                      <a:srgbClr val="333300"/>
                    </a:solidFill>
                    <a:latin typeface="Times New Roman"/>
                    <a:cs typeface="CordiaUPC"/>
                  </a:rPr>
                  <a:t>วินิจฉัย และวางระเบียบเกี่ยวกับ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333300"/>
                    </a:solidFill>
                    <a:latin typeface="Times New Roman"/>
                    <a:ea typeface="CordiaUPC"/>
                  </a:rPr>
                  <a:t>   </a:t>
                </a:r>
                <a:r>
                  <a:rPr b="1" lang="hi-IN" sz="2400" spc="-1" strike="noStrike">
                    <a:solidFill>
                      <a:srgbClr val="333300"/>
                    </a:solidFill>
                    <a:latin typeface="Times New Roman"/>
                    <a:cs typeface="CordiaUPC"/>
                  </a:rPr>
                  <a:t>การปฏิบัติราชการและประสานงาน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-110520" y="2971800"/>
            <a:ext cx="3571920" cy="1905120"/>
            <a:chOff x="-110520" y="2971800"/>
            <a:chExt cx="3571920" cy="1905120"/>
          </a:xfrm>
        </p:grpSpPr>
        <p:sp>
          <p:nvSpPr>
            <p:cNvPr id="221" name=""/>
            <p:cNvSpPr/>
            <p:nvPr/>
          </p:nvSpPr>
          <p:spPr>
            <a:xfrm>
              <a:off x="228600" y="2971800"/>
              <a:ext cx="2895480" cy="19051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-110520" y="3048120"/>
              <a:ext cx="3571920" cy="1665720"/>
              <a:chOff x="-110520" y="3048120"/>
              <a:chExt cx="3571920" cy="1665720"/>
            </a:xfrm>
          </p:grpSpPr>
          <p:sp>
            <p:nvSpPr>
              <p:cNvPr id="223" name=""/>
              <p:cNvSpPr/>
              <p:nvPr/>
            </p:nvSpPr>
            <p:spPr>
              <a:xfrm>
                <a:off x="5760" y="3048120"/>
                <a:ext cx="3455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hi-IN" sz="2800" spc="-1" strike="noStrike">
                    <a:solidFill>
                      <a:srgbClr val="990099"/>
                    </a:solidFill>
                    <a:latin typeface="Times New Roman"/>
                    <a:cs typeface="CordiaUPC"/>
                  </a:rPr>
                  <a:t>คณะกรรมการธุรกรรม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-110520" y="3524040"/>
                <a:ext cx="338508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9999ff"/>
                  </a:buClr>
                  <a:buFont typeface="Times New Roman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th-TH" sz="2400" spc="-1" strike="noStrike">
                    <a:solidFill>
                      <a:srgbClr val="9999ff"/>
                    </a:solidFill>
                    <a:latin typeface="Times New Roman"/>
                    <a:ea typeface="CordiaUPC"/>
                  </a:rPr>
                  <a:t> </a:t>
                </a:r>
                <a:r>
                  <a:rPr b="1" lang="th-TH" sz="2400" spc="-1" strike="noStrike">
                    <a:solidFill>
                      <a:srgbClr val="000066"/>
                    </a:solidFill>
                    <a:latin typeface="Times New Roman"/>
                    <a:cs typeface="CordiaUPC"/>
                  </a:rPr>
                  <a:t>หน่วยปฏิบัติการ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100000"/>
                  </a:lnSpc>
                  <a:buClr>
                    <a:srgbClr val="000066"/>
                  </a:buClr>
                  <a:buFont typeface="Times New Roman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th-TH" sz="2400" spc="-1" strike="noStrike">
                    <a:solidFill>
                      <a:srgbClr val="000066"/>
                    </a:solidFill>
                    <a:latin typeface="Times New Roman"/>
                    <a:ea typeface="CordiaUPC"/>
                  </a:rPr>
                  <a:t> </a:t>
                </a:r>
                <a:r>
                  <a:rPr b="1" lang="th-TH" sz="2400" spc="-1" strike="noStrike">
                    <a:solidFill>
                      <a:srgbClr val="000066"/>
                    </a:solidFill>
                    <a:latin typeface="Times New Roman"/>
                    <a:cs typeface="CordiaUPC"/>
                  </a:rPr>
                  <a:t>ถ่วงดุลการใช้อำนาจของ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th-TH" sz="2400" spc="-1" strike="noStrike">
                    <a:solidFill>
                      <a:srgbClr val="000066"/>
                    </a:solidFill>
                    <a:latin typeface="Times New Roman"/>
                    <a:ea typeface="CordiaUPC"/>
                  </a:rPr>
                  <a:t>   </a:t>
                </a:r>
                <a:r>
                  <a:rPr b="1" lang="th-TH" sz="2400" spc="-1" strike="noStrike">
                    <a:solidFill>
                      <a:srgbClr val="000066"/>
                    </a:solidFill>
                    <a:latin typeface="Times New Roman"/>
                    <a:cs typeface="CordiaUPC"/>
                  </a:rPr>
                  <a:t>คปง</a:t>
                </a:r>
                <a:r>
                  <a:rPr b="1" lang="th-TH" sz="2400" spc="-1" strike="noStrike">
                    <a:solidFill>
                      <a:srgbClr val="000066"/>
                    </a:solidFill>
                    <a:latin typeface="Times New Roman"/>
                    <a:ea typeface="CordiaUPC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2297520" y="4343400"/>
            <a:ext cx="7562880" cy="3250440"/>
            <a:chOff x="2297520" y="4343400"/>
            <a:chExt cx="7562880" cy="3250440"/>
          </a:xfrm>
        </p:grpSpPr>
        <p:sp>
          <p:nvSpPr>
            <p:cNvPr id="226" name=""/>
            <p:cNvSpPr/>
            <p:nvPr/>
          </p:nvSpPr>
          <p:spPr>
            <a:xfrm>
              <a:off x="3200400" y="4343400"/>
              <a:ext cx="5715000" cy="2286000"/>
            </a:xfrm>
            <a:prstGeom prst="rect">
              <a:avLst/>
            </a:prstGeom>
            <a:gradFill rotWithShape="0">
              <a:gsLst>
                <a:gs pos="0">
                  <a:srgbClr val="5e7517"/>
                </a:gs>
                <a:gs pos="50000">
                  <a:srgbClr val="ccff33"/>
                </a:gs>
                <a:gs pos="100000">
                  <a:srgbClr val="5e7517"/>
                </a:gs>
              </a:gsLst>
              <a:lin ang="5400000"/>
            </a:gra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297520" y="4343400"/>
              <a:ext cx="7562880" cy="3250440"/>
              <a:chOff x="2297520" y="4343400"/>
              <a:chExt cx="7562880" cy="3250440"/>
            </a:xfrm>
          </p:grpSpPr>
          <p:sp>
            <p:nvSpPr>
              <p:cNvPr id="228" name=""/>
              <p:cNvSpPr/>
              <p:nvPr/>
            </p:nvSpPr>
            <p:spPr>
              <a:xfrm>
                <a:off x="2297520" y="4343400"/>
                <a:ext cx="7562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th-TH" sz="3200" spc="-1" strike="noStrike">
                    <a:solidFill>
                      <a:srgbClr val="000066"/>
                    </a:solidFill>
                    <a:latin typeface="Times New Roman"/>
                    <a:cs typeface="CordiaUPC"/>
                  </a:rPr>
                  <a:t>สำนักงานป้องกันและปราบปรามการฟอกเงิน</a:t>
                </a:r>
                <a:endParaRPr b="0" lang="en-US" sz="32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th-TH" sz="3200" spc="-1" strike="noStrike">
                    <a:solidFill>
                      <a:srgbClr val="000066"/>
                    </a:solidFill>
                    <a:latin typeface="Times New Roman"/>
                    <a:ea typeface="CordiaUPC"/>
                  </a:rPr>
                  <a:t>                       </a:t>
                </a:r>
                <a:r>
                  <a:rPr b="1" lang="th-TH" sz="3200" spc="-1" strike="noStrike">
                    <a:solidFill>
                      <a:srgbClr val="000066"/>
                    </a:solidFill>
                    <a:latin typeface="Times New Roman"/>
                    <a:ea typeface="CordiaUPC"/>
                  </a:rPr>
                  <a:t>(</a:t>
                </a:r>
                <a:r>
                  <a:rPr b="1" lang="th-TH" sz="3200" spc="-1" strike="noStrike">
                    <a:solidFill>
                      <a:srgbClr val="000066"/>
                    </a:solidFill>
                    <a:latin typeface="Times New Roman"/>
                    <a:cs typeface="CordiaUPC"/>
                  </a:rPr>
                  <a:t>สปง</a:t>
                </a:r>
                <a:r>
                  <a:rPr b="1" lang="th-TH" sz="3200" spc="-1" strike="noStrike">
                    <a:solidFill>
                      <a:srgbClr val="000066"/>
                    </a:solidFill>
                    <a:latin typeface="Times New Roman"/>
                    <a:ea typeface="CordiaUPC"/>
                  </a:rPr>
                  <a:t>.)</a:t>
                </a:r>
                <a:endParaRPr b="0" lang="en-US" sz="32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00400" y="5305320"/>
                <a:ext cx="56721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ccecff"/>
                  </a:buClr>
                  <a:buFont typeface="Times New Roman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th-TH" sz="2400" spc="-1" strike="noStrike">
                    <a:solidFill>
                      <a:srgbClr val="ccecff"/>
                    </a:solidFill>
                    <a:latin typeface="Times New Roman"/>
                    <a:ea typeface="CordiaUPC"/>
                  </a:rPr>
                  <a:t> </a:t>
                </a:r>
                <a:r>
                  <a:rPr b="1" lang="th-TH" sz="2400" spc="-1" strike="noStrike">
                    <a:solidFill>
                      <a:srgbClr val="ff3300"/>
                    </a:solidFill>
                    <a:latin typeface="Times New Roman"/>
                    <a:cs typeface="CordiaUPC"/>
                  </a:rPr>
                  <a:t>ดำเนินการให้เป็นไปตามมติของ คปง</a:t>
                </a:r>
                <a:r>
                  <a:rPr b="1" lang="th-TH" sz="2400" spc="-1" strike="noStrike">
                    <a:solidFill>
                      <a:srgbClr val="ff3300"/>
                    </a:solidFill>
                    <a:latin typeface="Times New Roman"/>
                    <a:ea typeface="CordiaUPC"/>
                  </a:rPr>
                  <a:t>. </a:t>
                </a:r>
                <a:r>
                  <a:rPr b="1" lang="th-TH" sz="2400" spc="-1" strike="noStrike">
                    <a:solidFill>
                      <a:srgbClr val="ff3300"/>
                    </a:solidFill>
                    <a:latin typeface="Times New Roman"/>
                    <a:cs typeface="CordiaUPC"/>
                  </a:rPr>
                  <a:t>และคณะกรรมการ 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th-TH" sz="2400" spc="-1" strike="noStrike">
                    <a:solidFill>
                      <a:srgbClr val="ff3300"/>
                    </a:solidFill>
                    <a:latin typeface="Times New Roman"/>
                    <a:ea typeface="CordiaUPC"/>
                  </a:rPr>
                  <a:t>  </a:t>
                </a:r>
                <a:r>
                  <a:rPr b="1" lang="th-TH" sz="2400" spc="-1" strike="noStrike">
                    <a:solidFill>
                      <a:srgbClr val="ff3300"/>
                    </a:solidFill>
                    <a:latin typeface="Times New Roman"/>
                    <a:cs typeface="CordiaUPC"/>
                  </a:rPr>
                  <a:t>ธุรกรรม และปฎิบัติงานธุรกรรมอื่นๆ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100000"/>
                  </a:lnSpc>
                  <a:buClr>
                    <a:srgbClr val="000066"/>
                  </a:buClr>
                  <a:buFont typeface="Times New Roman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th-TH" sz="2400" spc="-1" strike="noStrike">
                    <a:solidFill>
                      <a:srgbClr val="000066"/>
                    </a:solidFill>
                    <a:latin typeface="Times New Roman"/>
                    <a:ea typeface="CordiaUPC"/>
                  </a:rPr>
                  <a:t> </a:t>
                </a:r>
                <a:r>
                  <a:rPr b="1" lang="th-TH" sz="2400" spc="-1" strike="noStrike">
                    <a:solidFill>
                      <a:srgbClr val="000066"/>
                    </a:solidFill>
                    <a:latin typeface="Times New Roman"/>
                    <a:cs typeface="CordiaUPC"/>
                  </a:rPr>
                  <a:t>รวบรวมพยาน และหลักฐานเพื่อการดำเนินคดี  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th-TH" sz="2400" spc="-1" strike="noStrike">
                    <a:solidFill>
                      <a:srgbClr val="ccecff"/>
                    </a:solidFill>
                    <a:latin typeface="Times New Roman"/>
                    <a:ea typeface="CordiaUPC"/>
                  </a:rPr>
                  <a:t>        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 rot="5391600">
            <a:off x="1524240" y="4799520"/>
            <a:ext cx="1370160" cy="1676520"/>
          </a:xfrm>
          <a:custGeom>
            <a:avLst/>
            <a:gdLst>
              <a:gd name="textAreaLeft" fmla="*/ 456840 w 1370160"/>
              <a:gd name="textAreaRight" fmla="*/ 1173600 w 1370160"/>
              <a:gd name="textAreaTop" fmla="*/ 965520 h 1676520"/>
              <a:gd name="textAreaBottom" fmla="*/ 14360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0066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3352680"/>
            <a:ext cx="898560" cy="990720"/>
          </a:xfrm>
          <a:prstGeom prst="downArrow">
            <a:avLst>
              <a:gd name="adj1" fmla="val 50000"/>
              <a:gd name="adj2" fmla="val 27564"/>
            </a:avLst>
          </a:prstGeom>
          <a:gradFill rotWithShape="0">
            <a:gsLst>
              <a:gs pos="0">
                <a:srgbClr val="9900cc"/>
              </a:gs>
              <a:gs pos="100000">
                <a:srgbClr val="cc0066"/>
              </a:gs>
            </a:gsLst>
            <a:lin ang="5400000"/>
          </a:gra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76520" y="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cap="sq" w="9360">
                  <a:solidFill>
                    <a:srgbClr val="6699ff"/>
                  </a:solidFill>
                  <a:miter/>
                </a:ln>
                <a:solidFill>
                  <a:srgbClr val="ff0000"/>
                </a:solidFill>
                <a:latin typeface="KodchiangUPC"/>
              </a:rPr>
              <a:t>โครงสร้างการดำเนินงานตาม พรบ</a:t>
            </a:r>
            <a:r>
              <a:rPr b="1" lang="en-US" sz="4400" spc="1" strike="noStrike">
                <a:ln cap="sq" w="9360">
                  <a:solidFill>
                    <a:srgbClr val="6699ff"/>
                  </a:solidFill>
                  <a:miter/>
                </a:ln>
                <a:solidFill>
                  <a:srgbClr val="ff0000"/>
                </a:solidFill>
                <a:latin typeface="KodchiangUPC"/>
              </a:rPr>
              <a:t>.</a:t>
            </a:r>
            <a:r>
              <a:rPr b="0" lang="hi-IN" sz="4400" spc="1" strike="noStrike">
                <a:ln cap="sq" w="9360">
                  <a:solidFill>
                    <a:srgbClr val="6699ff"/>
                  </a:solidFill>
                  <a:miter/>
                </a:ln>
                <a:solidFill>
                  <a:srgbClr val="ff0000"/>
                </a:solidFill>
                <a:latin typeface="KodchiangUPC"/>
              </a:rPr>
              <a:t>นี้</a:t>
            </a:r>
            <a:endParaRPr b="1" lang="en-US" sz="4400" spc="1" strike="noStrike">
              <a:ln cap="sq" w="9360">
                <a:solidFill>
                  <a:srgbClr val="6699ff"/>
                </a:solidFill>
                <a:miter/>
              </a:ln>
              <a:solidFill>
                <a:srgbClr val="ff0000"/>
              </a:solidFill>
              <a:latin typeface="KodchiangUPC"/>
              <a:ea typeface="KodchiangUPC"/>
            </a:endParaRPr>
          </a:p>
        </p:txBody>
      </p:sp>
      <p:sp>
        <p:nvSpPr>
          <p:cNvPr id="233" name=""/>
          <p:cNvSpPr/>
          <p:nvPr/>
        </p:nvSpPr>
        <p:spPr>
          <a:xfrm rot="10789200">
            <a:off x="1217520" y="1676160"/>
            <a:ext cx="1828800" cy="1295280"/>
          </a:xfrm>
          <a:custGeom>
            <a:avLst/>
            <a:gdLst>
              <a:gd name="textAreaLeft" fmla="*/ 609480 w 1828800"/>
              <a:gd name="textAreaRight" fmla="*/ 1566360 w 182880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685800"/>
            <a:ext cx="114300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hi-IN" sz="2800" spc="-1" strike="noStrike">
                <a:solidFill>
                  <a:srgbClr val="000066"/>
                </a:solidFill>
                <a:latin typeface="Angsana New"/>
              </a:rPr>
              <a:t>กลุ่มแร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295280"/>
            <a:ext cx="914400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th-TH" sz="2800" spc="-1" strike="noStrike" u="sng">
                <a:solidFill>
                  <a:srgbClr val="ff3300"/>
                </a:solidFill>
                <a:uFillTx/>
                <a:latin typeface="Angsana New"/>
              </a:rPr>
              <a:t>ประธานกรรมการ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นายกรัฐมนตรี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th-TH" sz="2800" spc="-1" strike="noStrike" u="sng">
                <a:solidFill>
                  <a:srgbClr val="ff3300"/>
                </a:solidFill>
                <a:uFillTx/>
                <a:latin typeface="Angsana New"/>
              </a:rPr>
              <a:t>รองประธานกรรมการ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รัฐมนตรีว่าการกระทรวงการคลั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th-TH" sz="2800" spc="-1" strike="noStrike" u="sng">
                <a:solidFill>
                  <a:srgbClr val="ff3300"/>
                </a:solidFill>
                <a:uFillTx/>
                <a:latin typeface="Angsana New"/>
              </a:rPr>
              <a:t>กรรมการ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ปลัดกระทรวงยุติธรรม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             อัยการสูงสุด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ผู้บัญชาการตำรวจแห่งชาติ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เลขาธิการ ปปส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ผู้อำนวยการ สศค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     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อธิบดีกรมการประกันภัย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อธิบดีกรมที่ดิน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อธิบดีกรมศุลกาก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อธิบดีกรมสรรพากร                         อธิบดีกรมสนธิสัญญาและกฎหมาย    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ผู้ว่าการ ธปท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ประธานสมาคมธนาคารไทย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ลขาธิการ ก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ล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ต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2800" spc="-1" strike="noStrike">
                <a:solidFill>
                  <a:srgbClr val="99ccff"/>
                </a:solidFill>
                <a:latin typeface="Angsana New"/>
              </a:rPr>
              <a:t>  </a:t>
            </a:r>
            <a:r>
              <a:rPr b="1" lang="th-TH" sz="2800" spc="-1" strike="noStrike" u="sng">
                <a:solidFill>
                  <a:srgbClr val="ff3300"/>
                </a:solidFill>
                <a:uFillTx/>
                <a:latin typeface="Angsana New"/>
              </a:rPr>
              <a:t>กรรมการและเลขานุการ</a:t>
            </a:r>
            <a:r>
              <a:rPr b="1" lang="th-TH" sz="2800" spc="-1" strike="noStrike">
                <a:solidFill>
                  <a:srgbClr val="ff33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99cc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เลขาธิการ ค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ป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-208440" y="0"/>
            <a:ext cx="9332280" cy="642600"/>
            <a:chOff x="-208440" y="0"/>
            <a:chExt cx="9332280" cy="642600"/>
          </a:xfrm>
        </p:grpSpPr>
        <p:sp>
          <p:nvSpPr>
            <p:cNvPr id="237" name=""/>
            <p:cNvSpPr/>
            <p:nvPr/>
          </p:nvSpPr>
          <p:spPr>
            <a:xfrm>
              <a:off x="1066680" y="69840"/>
              <a:ext cx="7010640" cy="53352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50000">
                  <a:srgbClr val="ccccff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208440" y="0"/>
              <a:ext cx="933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ff"/>
                  </a:solidFill>
                  <a:latin typeface="Angsana New"/>
                </a:rPr>
                <a:t>คณะกรรมการป้องกันและปราบปรามการฟอกเงิน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-868320" y="4952880"/>
            <a:ext cx="9623520" cy="1571760"/>
            <a:chOff x="-868320" y="4952880"/>
            <a:chExt cx="9623520" cy="1571760"/>
          </a:xfrm>
        </p:grpSpPr>
        <p:sp>
          <p:nvSpPr>
            <p:cNvPr id="240" name=""/>
            <p:cNvSpPr/>
            <p:nvPr/>
          </p:nvSpPr>
          <p:spPr>
            <a:xfrm>
              <a:off x="304920" y="4952880"/>
              <a:ext cx="137160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1e1e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</a:rPr>
                <a:t>กลุ่มที่สอง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-868320" y="5029200"/>
              <a:ext cx="9623520" cy="1495440"/>
              <a:chOff x="-868320" y="5029200"/>
              <a:chExt cx="9623520" cy="1495440"/>
            </a:xfrm>
          </p:grpSpPr>
          <p:sp>
            <p:nvSpPr>
              <p:cNvPr id="242" name=""/>
              <p:cNvSpPr/>
              <p:nvPr/>
            </p:nvSpPr>
            <p:spPr>
              <a:xfrm>
                <a:off x="-868320" y="5791320"/>
                <a:ext cx="96235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800" spc="-1" strike="noStrike">
                    <a:solidFill>
                      <a:srgbClr val="000000"/>
                    </a:solidFill>
                    <a:latin typeface="Angsana New"/>
                  </a:rPr>
                  <a:t>เป็นกลุ่มซึ่งมีความเชี่ยวชาญในสาขาใดสาขาหนึ่งที่เป็นประโยชน์ ฯ 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ngsana New"/>
                  </a:rPr>
                  <a:t> </a:t>
                </a:r>
                <a:r>
                  <a:rPr b="1" lang="hi-IN" sz="2800" spc="-1" strike="noStrike">
                    <a:solidFill>
                      <a:srgbClr val="000000"/>
                    </a:solidFill>
                    <a:latin typeface="Angsana New"/>
                  </a:rPr>
                  <a:t>และได้รับความเห็นชอบของสภาผู้แทน ฯ และวุฒิสภาตามลำดับ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11640" y="5029200"/>
                <a:ext cx="353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800" spc="-1" strike="noStrike">
                    <a:solidFill>
                      <a:srgbClr val="000000"/>
                    </a:solidFill>
                    <a:latin typeface="Angsana New"/>
                  </a:rPr>
                  <a:t>แต่งตั้งโดย ครม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ngsana New"/>
                  </a:rPr>
                  <a:t>. 9 </a:t>
                </a:r>
                <a:r>
                  <a:rPr b="1" lang="hi-IN" sz="2800" spc="-1" strike="noStrike">
                    <a:solidFill>
                      <a:srgbClr val="000000"/>
                    </a:solidFill>
                    <a:latin typeface="Angsana New"/>
                  </a:rPr>
                  <a:t>คน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04920" y="152280"/>
            <a:ext cx="1828800" cy="2057400"/>
            <a:chOff x="304920" y="152280"/>
            <a:chExt cx="1828800" cy="2057400"/>
          </a:xfrm>
        </p:grpSpPr>
        <p:sp>
          <p:nvSpPr>
            <p:cNvPr id="49" name=""/>
            <p:cNvSpPr txBox="1"/>
            <p:nvPr/>
          </p:nvSpPr>
          <p:spPr>
            <a:xfrm>
              <a:off x="304920" y="152280"/>
              <a:ext cx="182880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764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FreesiaUPC"/>
                </a:rPr>
                <a:t>เงิน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FreesiaUPC"/>
                <a:ea typeface="FreesiaUPC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600200"/>
              <a:ext cx="990720" cy="6094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200"/>
                </a:gs>
                <a:gs pos="5000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280" y="2133720"/>
            <a:ext cx="3581640" cy="1295280"/>
            <a:chOff x="152280" y="2133720"/>
            <a:chExt cx="3581640" cy="1295280"/>
          </a:xfrm>
        </p:grpSpPr>
        <p:sp>
          <p:nvSpPr>
            <p:cNvPr id="52" name=""/>
            <p:cNvSpPr txBox="1"/>
            <p:nvPr/>
          </p:nvSpPr>
          <p:spPr>
            <a:xfrm>
              <a:off x="152280" y="2133720"/>
              <a:ext cx="2057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owallia New"/>
                </a:rPr>
                <a:t>เงินสกปรก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owallia New"/>
                <a:ea typeface="Browalli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2514600"/>
              <a:ext cx="914400" cy="91440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847240" y="2057400"/>
            <a:ext cx="6958080" cy="4558680"/>
            <a:chOff x="2847240" y="2057400"/>
            <a:chExt cx="6958080" cy="4558680"/>
          </a:xfrm>
        </p:grpSpPr>
        <p:sp>
          <p:nvSpPr>
            <p:cNvPr id="55" name=""/>
            <p:cNvSpPr/>
            <p:nvPr/>
          </p:nvSpPr>
          <p:spPr>
            <a:xfrm>
              <a:off x="3733920" y="2057400"/>
              <a:ext cx="5105160" cy="15238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47240" y="2209680"/>
              <a:ext cx="6958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6600" spc="-1" strike="noStrike">
                  <a:solidFill>
                    <a:srgbClr val="ffffff"/>
                  </a:solidFill>
                  <a:latin typeface="Angsana New"/>
                </a:rPr>
                <a:t>กฎหมายที่เกี่ยวข้อง</a:t>
              </a:r>
              <a:endParaRPr b="0" lang="en-US" sz="6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81480" y="3733920"/>
              <a:ext cx="3505320" cy="121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76880" y="3773520"/>
              <a:ext cx="329112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ffffff"/>
                  </a:solidFill>
                  <a:latin typeface="Angsana New"/>
                </a:rPr>
                <a:t>การดำเนินคดี</a:t>
              </a:r>
              <a:endParaRPr b="0" lang="en-US" sz="4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ngsana New"/>
                </a:rPr>
                <a:t>   </a:t>
              </a:r>
              <a:r>
                <a:rPr b="1" lang="hi-IN" sz="4400" spc="-1" strike="noStrike">
                  <a:solidFill>
                    <a:srgbClr val="ffffff"/>
                  </a:solidFill>
                  <a:latin typeface="Angsana New"/>
                </a:rPr>
                <a:t>ทางอาญา</a:t>
              </a:r>
              <a:endParaRPr b="0" lang="en-US" sz="4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38480" y="3733920"/>
              <a:ext cx="914400" cy="91440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7800" y="5334120"/>
              <a:ext cx="3505320" cy="121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5486400"/>
              <a:ext cx="914400" cy="91440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85280" y="5181480"/>
              <a:ext cx="4161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ffffff"/>
                  </a:solidFill>
                  <a:latin typeface="Angsana New"/>
                </a:rPr>
                <a:t>การดำเนินการ</a:t>
              </a:r>
              <a:endParaRPr b="0" lang="en-US" sz="4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ffffff"/>
                  </a:solidFill>
                  <a:latin typeface="Angsana New"/>
                </a:rPr>
                <a:t>เกี่ยวกับทรัพย์สิน</a:t>
              </a:r>
              <a:endParaRPr b="0" lang="en-US" sz="4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920" y="304920"/>
            <a:ext cx="4419360" cy="6094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ffff00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255680"/>
            <a:ext cx="836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  </a:t>
            </a: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1. </a:t>
            </a: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เลขาธิการ คปง</a:t>
            </a: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เป็นประธานกรรมกา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  </a:t>
            </a: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2. </a:t>
            </a: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คณะกรรมการ คปง</a:t>
            </a: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. </a:t>
            </a: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แต่งตั้ง </a:t>
            </a: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4 </a:t>
            </a:r>
            <a:r>
              <a:rPr b="1" lang="th-TH" sz="3200" spc="-1" strike="noStrike">
                <a:solidFill>
                  <a:srgbClr val="000066"/>
                </a:solidFill>
                <a:latin typeface="Angsana New"/>
              </a:rPr>
              <a:t>คน เป็นกรรมการ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6" name=""/>
          <p:cNvSpPr/>
          <p:nvPr/>
        </p:nvSpPr>
        <p:spPr>
          <a:xfrm>
            <a:off x="68400" y="276120"/>
            <a:ext cx="48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คณะกรรมการธุรกรรม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ค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666880"/>
            <a:ext cx="4876560" cy="6098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ffff00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8" name=""/>
          <p:cNvSpPr/>
          <p:nvPr/>
        </p:nvSpPr>
        <p:spPr>
          <a:xfrm>
            <a:off x="-1896840" y="3505320"/>
            <a:ext cx="1291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1. 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ตรวจสอบธุรกรรมหรือทรัพย์สินที่เกี่ยวกับการกระทำความผิด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2. 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สั่งยับยั้งการกระทำธุรกรรม ที่เกี่ยวข้องหรืออาจเกี่ยวข้องกับการฟอกเงิ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     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- 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กรณีมีเหตุอันควรสงสัย ยับยั้งได้ไม่เกิน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3 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วันทำการ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มาตรา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35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     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- 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กรณีมีหลักฐานเป็นที่เชื่อได้ ยับยั้งได้ไม่เกิน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10 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วันทำการ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มาตรา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36)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3. 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สั่งยึดหรือ อายัดทรัพย์สินที่เกี่ยวกับการกระทำความผิดไว้ชั่วคราว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      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ได้ไม่เกิน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90 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วัน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000066"/>
                </a:solidFill>
                <a:latin typeface="Angsana New"/>
              </a:rPr>
              <a:t>มาตรา </a:t>
            </a:r>
            <a:r>
              <a:rPr b="1" lang="en-US" sz="3200" spc="-1" strike="noStrike">
                <a:solidFill>
                  <a:srgbClr val="000066"/>
                </a:solidFill>
                <a:latin typeface="Angsana New"/>
              </a:rPr>
              <a:t>48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9" name=""/>
          <p:cNvSpPr/>
          <p:nvPr/>
        </p:nvSpPr>
        <p:spPr>
          <a:xfrm>
            <a:off x="-365400" y="2641680"/>
            <a:ext cx="62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คณะกรรมการธุรกรรมมีอำนาจหน้าที่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3962520" cy="990720"/>
          </a:xfrm>
          <a:prstGeom prst="rect">
            <a:avLst/>
          </a:prstGeom>
          <a:gradFill rotWithShape="0">
            <a:gsLst>
              <a:gs pos="0">
                <a:srgbClr val="0a2b2b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1" name=""/>
          <p:cNvSpPr/>
          <p:nvPr/>
        </p:nvSpPr>
        <p:spPr>
          <a:xfrm>
            <a:off x="-1027080" y="380880"/>
            <a:ext cx="61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99"/>
                </a:solidFill>
                <a:latin typeface="Angsana New"/>
              </a:rPr>
              <a:t>การดำเนินการเกี่ยวกับทรัพย์สิ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579132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การตรวจสอบรายงานและข้อมูลตามหลักเกณฑ์ในกฎกระทรว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6480" y="4678200"/>
            <a:ext cx="7389360" cy="1265400"/>
            <a:chOff x="996480" y="4678200"/>
            <a:chExt cx="7389360" cy="1265400"/>
          </a:xfrm>
        </p:grpSpPr>
        <p:sp>
          <p:nvSpPr>
            <p:cNvPr id="254" name=""/>
            <p:cNvSpPr/>
            <p:nvPr/>
          </p:nvSpPr>
          <p:spPr>
            <a:xfrm>
              <a:off x="996480" y="4678200"/>
              <a:ext cx="7389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ngsana New"/>
                </a:rPr>
                <a:t>มูลเหตุอันเชื่อได้ว่าทรัพย์สินนั้นเกี่ยวข้องกับ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ngsana New"/>
                </a:rPr>
                <a:t>การกระทำความผิดฐานฟอกเงิน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38480" y="5638680"/>
              <a:ext cx="762120" cy="304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95480" y="3962520"/>
            <a:ext cx="4970520" cy="838080"/>
            <a:chOff x="1995480" y="3962520"/>
            <a:chExt cx="4970520" cy="838080"/>
          </a:xfrm>
        </p:grpSpPr>
        <p:sp>
          <p:nvSpPr>
            <p:cNvPr id="257" name=""/>
            <p:cNvSpPr/>
            <p:nvPr/>
          </p:nvSpPr>
          <p:spPr>
            <a:xfrm>
              <a:off x="1995480" y="3962520"/>
              <a:ext cx="497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ngsana New"/>
                </a:rPr>
                <a:t>การสั่งยึดหรืออายัดทรัพย์สิน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8480" y="4495680"/>
              <a:ext cx="762120" cy="304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20720" y="2438280"/>
            <a:ext cx="7950240" cy="838440"/>
            <a:chOff x="720720" y="2438280"/>
            <a:chExt cx="7950240" cy="838440"/>
          </a:xfrm>
        </p:grpSpPr>
        <p:sp>
          <p:nvSpPr>
            <p:cNvPr id="260" name=""/>
            <p:cNvSpPr/>
            <p:nvPr/>
          </p:nvSpPr>
          <p:spPr>
            <a:xfrm>
              <a:off x="720720" y="2438280"/>
              <a:ext cx="795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ngsana New"/>
                </a:rPr>
                <a:t>การพิจารณาวินิจฉัยของคณะกรรมการธุรกรรม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2971800"/>
              <a:ext cx="762120" cy="304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295640" y="1828800"/>
            <a:ext cx="6474960" cy="762120"/>
            <a:chOff x="1295640" y="1828800"/>
            <a:chExt cx="6474960" cy="762120"/>
          </a:xfrm>
        </p:grpSpPr>
        <p:sp>
          <p:nvSpPr>
            <p:cNvPr id="263" name=""/>
            <p:cNvSpPr/>
            <p:nvPr/>
          </p:nvSpPr>
          <p:spPr>
            <a:xfrm>
              <a:off x="1295640" y="1828800"/>
              <a:ext cx="647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ngsana New"/>
                </a:rPr>
                <a:t>ทรัพย์สินที่เกี่ยวกับการกระทำความผิด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38480" y="2286000"/>
              <a:ext cx="762120" cy="304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046320" y="1219320"/>
            <a:ext cx="2799000" cy="761760"/>
            <a:chOff x="3046320" y="1219320"/>
            <a:chExt cx="2799000" cy="761760"/>
          </a:xfrm>
        </p:grpSpPr>
        <p:sp>
          <p:nvSpPr>
            <p:cNvPr id="266" name=""/>
            <p:cNvSpPr/>
            <p:nvPr/>
          </p:nvSpPr>
          <p:spPr>
            <a:xfrm>
              <a:off x="3046320" y="1219320"/>
              <a:ext cx="279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ngsana New"/>
                </a:rPr>
                <a:t>พนักงานอัยการ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8480" y="1676520"/>
              <a:ext cx="76212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916800" y="533520"/>
            <a:ext cx="869400" cy="838080"/>
            <a:chOff x="3916800" y="533520"/>
            <a:chExt cx="869400" cy="838080"/>
          </a:xfrm>
        </p:grpSpPr>
        <p:sp>
          <p:nvSpPr>
            <p:cNvPr id="269" name=""/>
            <p:cNvSpPr/>
            <p:nvPr/>
          </p:nvSpPr>
          <p:spPr>
            <a:xfrm>
              <a:off x="3916800" y="533520"/>
              <a:ext cx="86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ngsana New"/>
                </a:rPr>
                <a:t>ศาล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1066680"/>
              <a:ext cx="761760" cy="304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142000" y="3124080"/>
            <a:ext cx="4575960" cy="838440"/>
            <a:chOff x="2142000" y="3124080"/>
            <a:chExt cx="4575960" cy="838440"/>
          </a:xfrm>
        </p:grpSpPr>
        <p:sp>
          <p:nvSpPr>
            <p:cNvPr id="272" name=""/>
            <p:cNvSpPr/>
            <p:nvPr/>
          </p:nvSpPr>
          <p:spPr>
            <a:xfrm>
              <a:off x="2142000" y="3124080"/>
              <a:ext cx="457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ngsana New"/>
                </a:rPr>
                <a:t>โดยคณะกรรมการธุรกรรม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8480" y="3657600"/>
              <a:ext cx="762120" cy="304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914720" y="3581280"/>
            <a:ext cx="4465080" cy="838080"/>
            <a:chOff x="4914720" y="3581280"/>
            <a:chExt cx="4465080" cy="838080"/>
          </a:xfrm>
        </p:grpSpPr>
        <p:sp>
          <p:nvSpPr>
            <p:cNvPr id="275" name=""/>
            <p:cNvSpPr/>
            <p:nvPr/>
          </p:nvSpPr>
          <p:spPr>
            <a:xfrm>
              <a:off x="4914720" y="3581280"/>
              <a:ext cx="206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99ff66"/>
                  </a:solidFill>
                  <a:latin typeface="Angsana New"/>
                </a:rPr>
                <a:t>กรณีเร่งด่วน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904000" y="3809880"/>
              <a:ext cx="3475800" cy="609480"/>
              <a:chOff x="5904000" y="3809880"/>
              <a:chExt cx="3475800" cy="60948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5904000" y="3809880"/>
                <a:ext cx="3475800" cy="609480"/>
                <a:chOff x="5904000" y="3809880"/>
                <a:chExt cx="3475800" cy="609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904000" y="3809880"/>
                  <a:ext cx="3475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h-TH" sz="3200" spc="-1" strike="noStrike">
                      <a:solidFill>
                        <a:srgbClr val="99ff66"/>
                      </a:solidFill>
                      <a:latin typeface="Angsana New"/>
                    </a:rPr>
                    <a:t>โดยเลขาธิการ คปง</a:t>
                  </a:r>
                  <a:r>
                    <a:rPr b="1" lang="th-TH" sz="3200" spc="-1" strike="noStrike">
                      <a:solidFill>
                        <a:srgbClr val="99ff66"/>
                      </a:solidFill>
                      <a:latin typeface="Angsana New"/>
                    </a:rPr>
                    <a:t>.</a:t>
                  </a:r>
                  <a:endParaRPr b="0" lang="en-US" sz="32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495480" y="3809880"/>
                  <a:ext cx="2412720" cy="6094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6019920" y="4267080"/>
                <a:ext cx="482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 flipV="1">
            <a:off x="7848720" y="34290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6095520" y="2971800"/>
            <a:ext cx="1752840" cy="520560"/>
            <a:chOff x="6095520" y="2971800"/>
            <a:chExt cx="1752840" cy="520560"/>
          </a:xfrm>
        </p:grpSpPr>
        <p:sp>
          <p:nvSpPr>
            <p:cNvPr id="283" name=""/>
            <p:cNvSpPr/>
            <p:nvPr/>
          </p:nvSpPr>
          <p:spPr>
            <a:xfrm flipH="1">
              <a:off x="6095520" y="3429000"/>
              <a:ext cx="17528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03760" y="2971800"/>
              <a:ext cx="132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99ff66"/>
                  </a:solidFill>
                  <a:latin typeface="Angsana New"/>
                </a:rPr>
                <a:t>รายงาน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800600" y="228600"/>
            <a:ext cx="4392000" cy="1145160"/>
            <a:chOff x="4800600" y="228600"/>
            <a:chExt cx="4392000" cy="1145160"/>
          </a:xfrm>
        </p:grpSpPr>
        <p:grpSp>
          <p:nvGrpSpPr>
            <p:cNvPr id="286" name=""/>
            <p:cNvGrpSpPr/>
            <p:nvPr/>
          </p:nvGrpSpPr>
          <p:grpSpPr>
            <a:xfrm>
              <a:off x="5589000" y="228600"/>
              <a:ext cx="3603600" cy="1145160"/>
              <a:chOff x="5589000" y="228600"/>
              <a:chExt cx="3603600" cy="1145160"/>
            </a:xfrm>
          </p:grpSpPr>
          <p:sp>
            <p:nvSpPr>
              <p:cNvPr id="287" name=""/>
              <p:cNvSpPr/>
              <p:nvPr/>
            </p:nvSpPr>
            <p:spPr>
              <a:xfrm>
                <a:off x="5867280" y="228600"/>
                <a:ext cx="3048120" cy="1143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589000" y="304920"/>
                <a:ext cx="36036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3200" spc="-1" strike="noStrike">
                    <a:solidFill>
                      <a:srgbClr val="ff3300"/>
                    </a:solidFill>
                    <a:latin typeface="Angsana New"/>
                  </a:rPr>
                  <a:t>ทรัพย์สินตกเป็นของ</a:t>
                </a:r>
                <a:endParaRPr b="0" lang="en-US" sz="32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3200" spc="-1" strike="noStrike">
                    <a:solidFill>
                      <a:srgbClr val="ff3300"/>
                    </a:solidFill>
                    <a:latin typeface="Angsana New"/>
                  </a:rPr>
                  <a:t>แผ่นดิน</a:t>
                </a:r>
                <a:endParaRPr b="0" lang="en-US" sz="32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800600" y="457200"/>
              <a:ext cx="990720" cy="685800"/>
            </a:xfrm>
            <a:custGeom>
              <a:avLst/>
              <a:gdLst>
                <a:gd name="textAreaLeft" fmla="*/ 154800 w 990720"/>
                <a:gd name="textAreaRight" fmla="*/ 866880 w 99072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374240" y="62784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มาตรา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48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645160" y="6248520"/>
            <a:ext cx="217332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660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2" name=""/>
          <p:cNvSpPr/>
          <p:nvPr/>
        </p:nvSpPr>
        <p:spPr>
          <a:xfrm>
            <a:off x="5773680" y="4073400"/>
            <a:ext cx="1542960" cy="1238400"/>
          </a:xfrm>
          <a:prstGeom prst="diamond">
            <a:avLst/>
          </a:prstGeom>
          <a:gradFill rotWithShape="0">
            <a:gsLst>
              <a:gs pos="0">
                <a:srgbClr val="dddddd"/>
              </a:gs>
              <a:gs pos="50000">
                <a:srgbClr val="ff660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"/>
          <p:cNvSpPr/>
          <p:nvPr/>
        </p:nvSpPr>
        <p:spPr>
          <a:xfrm>
            <a:off x="5738760" y="2152800"/>
            <a:ext cx="1600200" cy="936360"/>
          </a:xfrm>
          <a:prstGeom prst="diamond">
            <a:avLst/>
          </a:prstGeom>
          <a:gradFill rotWithShape="0">
            <a:gsLst>
              <a:gs pos="0">
                <a:srgbClr val="dddddd"/>
              </a:gs>
              <a:gs pos="50000">
                <a:srgbClr val="ff660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64600" dir="674838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"/>
          <p:cNvSpPr/>
          <p:nvPr/>
        </p:nvSpPr>
        <p:spPr>
          <a:xfrm>
            <a:off x="5743440" y="66600"/>
            <a:ext cx="1617840" cy="1089000"/>
          </a:xfrm>
          <a:prstGeom prst="diamond">
            <a:avLst/>
          </a:prstGeom>
          <a:gradFill rotWithShape="0">
            <a:gsLst>
              <a:gs pos="0">
                <a:srgbClr val="dddddd"/>
              </a:gs>
              <a:gs pos="50000">
                <a:srgbClr val="ff660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5" name=""/>
          <p:cNvSpPr/>
          <p:nvPr/>
        </p:nvSpPr>
        <p:spPr>
          <a:xfrm>
            <a:off x="5705280" y="144360"/>
            <a:ext cx="1715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i="1" lang="th-TH" sz="2800" spc="-1" strike="noStrike">
                <a:solidFill>
                  <a:srgbClr val="000000"/>
                </a:solidFill>
                <a:latin typeface="Angsana New"/>
              </a:rPr>
              <a:t>เงิ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ngsana New"/>
              </a:rPr>
              <a:t>PROCEE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03280" y="1225440"/>
            <a:ext cx="1243080" cy="1765440"/>
            <a:chOff x="5903280" y="1225440"/>
            <a:chExt cx="1243080" cy="1765440"/>
          </a:xfrm>
        </p:grpSpPr>
        <p:sp>
          <p:nvSpPr>
            <p:cNvPr id="297" name=""/>
            <p:cNvSpPr/>
            <p:nvPr/>
          </p:nvSpPr>
          <p:spPr>
            <a:xfrm>
              <a:off x="6553080" y="1225440"/>
              <a:ext cx="0" cy="831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82640" y="1335240"/>
              <a:ext cx="709560" cy="3315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ngsana New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03280" y="2257560"/>
              <a:ext cx="1243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800" spc="-1" strike="noStrike">
                  <a:solidFill>
                    <a:srgbClr val="000000"/>
                  </a:solidFill>
                  <a:latin typeface="Angsana New"/>
                </a:rPr>
                <a:t>     </a:t>
              </a:r>
              <a:r>
                <a:rPr b="1" i="1" lang="th-TH" sz="2800" spc="-1" strike="noStrike">
                  <a:solidFill>
                    <a:srgbClr val="000000"/>
                  </a:solidFill>
                  <a:latin typeface="Angsana New"/>
                </a:rPr>
                <a:t>รู้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ngsana New"/>
                </a:rPr>
                <a:t>KNOW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28600" y="228600"/>
            <a:ext cx="5257800" cy="1295280"/>
            <a:chOff x="228600" y="228600"/>
            <a:chExt cx="5257800" cy="1295280"/>
          </a:xfrm>
        </p:grpSpPr>
        <p:sp>
          <p:nvSpPr>
            <p:cNvPr id="301" name=""/>
            <p:cNvSpPr/>
            <p:nvPr/>
          </p:nvSpPr>
          <p:spPr>
            <a:xfrm flipH="1">
              <a:off x="2819520" y="609480"/>
              <a:ext cx="2666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20000" y="304920"/>
              <a:ext cx="835920" cy="5814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c0c0"/>
                  </a:solidFill>
                  <a:latin typeface="Angsana New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8600" y="228600"/>
              <a:ext cx="2438280" cy="1295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6600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3200" spc="-1" strike="noStrike">
                  <a:solidFill>
                    <a:srgbClr val="000000"/>
                  </a:solidFill>
                  <a:latin typeface="Angsana New"/>
                </a:rPr>
                <a:t>ไม่ผิด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ngsana New"/>
                </a:rPr>
                <a:t>NO VIOLATION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653080" y="3165480"/>
            <a:ext cx="1819080" cy="1846080"/>
            <a:chOff x="5653080" y="3165480"/>
            <a:chExt cx="1819080" cy="1846080"/>
          </a:xfrm>
        </p:grpSpPr>
        <p:sp>
          <p:nvSpPr>
            <p:cNvPr id="305" name=""/>
            <p:cNvSpPr/>
            <p:nvPr/>
          </p:nvSpPr>
          <p:spPr>
            <a:xfrm>
              <a:off x="5653080" y="4278240"/>
              <a:ext cx="1819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800" spc="-1" strike="noStrike">
                  <a:solidFill>
                    <a:srgbClr val="000000"/>
                  </a:solidFill>
                  <a:latin typeface="Angsana New"/>
                </a:rPr>
                <a:t>การกระทำ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ngsana New"/>
                </a:rPr>
                <a:t>CONDUCT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53080" y="3165480"/>
              <a:ext cx="0" cy="831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82640" y="3274920"/>
              <a:ext cx="709560" cy="3315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ngsana New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272200" y="5357880"/>
            <a:ext cx="2766960" cy="1390320"/>
            <a:chOff x="5272200" y="5357880"/>
            <a:chExt cx="2766960" cy="1390320"/>
          </a:xfrm>
        </p:grpSpPr>
        <p:sp>
          <p:nvSpPr>
            <p:cNvPr id="309" name=""/>
            <p:cNvSpPr/>
            <p:nvPr/>
          </p:nvSpPr>
          <p:spPr>
            <a:xfrm>
              <a:off x="5272200" y="6227640"/>
              <a:ext cx="27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800" spc="-1" strike="noStrike">
                  <a:solidFill>
                    <a:srgbClr val="000000"/>
                  </a:solidFill>
                  <a:latin typeface="Angsana New"/>
                </a:rPr>
                <a:t>โดยมีเจตนาพิเศษ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182640" y="5357880"/>
              <a:ext cx="709560" cy="831960"/>
              <a:chOff x="6182640" y="5357880"/>
              <a:chExt cx="709560" cy="831960"/>
            </a:xfrm>
          </p:grpSpPr>
          <p:sp>
            <p:nvSpPr>
              <p:cNvPr id="311" name=""/>
              <p:cNvSpPr/>
              <p:nvPr/>
            </p:nvSpPr>
            <p:spPr>
              <a:xfrm>
                <a:off x="6553080" y="5357880"/>
                <a:ext cx="0" cy="831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82640" y="5467320"/>
                <a:ext cx="709560" cy="331560"/>
              </a:xfrm>
              <a:prstGeom prst="rect">
                <a:avLst/>
              </a:prstGeom>
              <a:solidFill>
                <a:srgbClr val="0033cc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0c0c0"/>
                    </a:solidFill>
                    <a:latin typeface="Angsana New"/>
                  </a:rPr>
                  <a:t>YES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3657240" y="2286000"/>
            <a:ext cx="1981080" cy="581400"/>
            <a:chOff x="3657240" y="2286000"/>
            <a:chExt cx="1981080" cy="581400"/>
          </a:xfrm>
        </p:grpSpPr>
        <p:sp>
          <p:nvSpPr>
            <p:cNvPr id="314" name=""/>
            <p:cNvSpPr/>
            <p:nvPr/>
          </p:nvSpPr>
          <p:spPr>
            <a:xfrm flipH="1">
              <a:off x="3657240" y="2614680"/>
              <a:ext cx="19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29720" y="2286000"/>
              <a:ext cx="835920" cy="5814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c0c0"/>
                  </a:solidFill>
                  <a:latin typeface="Angsana New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657600" y="4343400"/>
            <a:ext cx="1905120" cy="581400"/>
            <a:chOff x="3657600" y="4343400"/>
            <a:chExt cx="1905120" cy="581400"/>
          </a:xfrm>
        </p:grpSpPr>
        <p:sp>
          <p:nvSpPr>
            <p:cNvPr id="317" name=""/>
            <p:cNvSpPr/>
            <p:nvPr/>
          </p:nvSpPr>
          <p:spPr>
            <a:xfrm flipH="1">
              <a:off x="3657600" y="467208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05960" y="4343400"/>
              <a:ext cx="835920" cy="5814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c0c0"/>
                  </a:solidFill>
                  <a:latin typeface="Angsana New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639960" y="6191280"/>
            <a:ext cx="1905120" cy="581400"/>
            <a:chOff x="3639960" y="6191280"/>
            <a:chExt cx="1905120" cy="581400"/>
          </a:xfrm>
        </p:grpSpPr>
        <p:sp>
          <p:nvSpPr>
            <p:cNvPr id="320" name=""/>
            <p:cNvSpPr/>
            <p:nvPr/>
          </p:nvSpPr>
          <p:spPr>
            <a:xfrm flipH="1">
              <a:off x="3639960" y="651996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9720" y="6191280"/>
              <a:ext cx="835920" cy="5814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c0c0"/>
                  </a:solidFill>
                  <a:latin typeface="Angsana New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592440" y="60948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"/>
          <p:cNvSpPr/>
          <p:nvPr/>
        </p:nvSpPr>
        <p:spPr>
          <a:xfrm>
            <a:off x="-431640" y="2635200"/>
            <a:ext cx="459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CordiaUPC"/>
              </a:rPr>
              <a:t>กระบวนการและ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CordiaUPC"/>
              </a:rPr>
              <a:t>ขั้นตอนการพิสูจน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ngsana New"/>
              </a:rPr>
              <a:t>อำนาจสืบสวนในกรณีพิเศษ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ngsana New"/>
              </a:rPr>
              <a:t>การเข้าถึงบัญชี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-329040">
              <a:spcBef>
                <a:spcPts val="1100"/>
              </a:spcBef>
              <a:buClr>
                <a:srgbClr val="ff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ngsana New"/>
              </a:rPr>
              <a:t>การเข้าถึงข้อมูลทางการสื่อสาร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-329040">
              <a:spcBef>
                <a:spcPts val="1100"/>
              </a:spcBef>
              <a:buClr>
                <a:srgbClr val="ff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ngsana New"/>
              </a:rPr>
              <a:t>การเข้าถึงข้อมูลทางคอมพิวเตอร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8" name=""/>
          <p:cNvSpPr/>
          <p:nvPr/>
        </p:nvSpPr>
        <p:spPr>
          <a:xfrm>
            <a:off x="4680" y="33526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"/>
          <p:cNvSpPr/>
          <p:nvPr/>
        </p:nvSpPr>
        <p:spPr>
          <a:xfrm>
            <a:off x="4680" y="510552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1355760"/>
            <a:ext cx="8534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ngsana New"/>
              </a:rPr>
              <a:t>ในกรณีมีเหตุอันควรเชื่อได้ว่า    บัญชีลูกค้าของสถาบันการเงิน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ngsana New"/>
              </a:rPr>
              <a:t>เครื่องมือหรืออุปกรณ์ในการสื่อสาร หรือเครื่องคอมพิวเตอร์ใด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ngsana New"/>
              </a:rPr>
              <a:t>ถูกใช้หรืออาจถูกใช้  เพื่อประโยชน์ในการกระทำความผิดฐานฟอกเงิน   พนักงานเจ้าหน้าที่สามารถยื่นคำขอต่อศาลแพ่ง เพื่อมีคำสั่งอนุญาตให้เข้าถึงบัญชีข้อมูลทางการสื่อสาร  หรือข้อมูลคอมพิวเตอร์ ดังกล่าวนั้นก็ได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0" y="22860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มาตรา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46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2094840" y="304920"/>
            <a:ext cx="13416480" cy="5122800"/>
            <a:chOff x="-2094840" y="304920"/>
            <a:chExt cx="13416480" cy="5122800"/>
          </a:xfrm>
        </p:grpSpPr>
        <p:sp>
          <p:nvSpPr>
            <p:cNvPr id="64" name=""/>
            <p:cNvSpPr/>
            <p:nvPr/>
          </p:nvSpPr>
          <p:spPr>
            <a:xfrm>
              <a:off x="1600200" y="304920"/>
              <a:ext cx="6477120" cy="91440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5000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19320" y="304920"/>
              <a:ext cx="7543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800" spc="-1" strike="noStrike">
                  <a:solidFill>
                    <a:srgbClr val="ff3300"/>
                  </a:solidFill>
                  <a:latin typeface="Angsana New"/>
                </a:rPr>
                <a:t>บทกฎหมายที่เกี่ยวข้อง</a:t>
              </a:r>
              <a:endParaRPr b="0" lang="en-US" sz="4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-2094840" y="1981080"/>
              <a:ext cx="1341648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Angsana New"/>
                </a:rPr>
                <a:t>	</a:t>
              </a:r>
              <a:r>
                <a:rPr b="1" lang="en-US" sz="4000" spc="-1" strike="noStrike">
                  <a:solidFill>
                    <a:srgbClr val="ffff66"/>
                  </a:solidFill>
                  <a:latin typeface="Angsana New"/>
                </a:rPr>
                <a:t>1. </a:t>
              </a:r>
              <a:r>
                <a:rPr b="1" lang="hi-IN" sz="4000" spc="-1" strike="noStrike">
                  <a:solidFill>
                    <a:srgbClr val="ffff66"/>
                  </a:solidFill>
                  <a:latin typeface="Angsana New"/>
                </a:rPr>
                <a:t>ความผิดเกี่ยวกับยาเสพติด</a:t>
              </a:r>
              <a:endParaRPr b="0" lang="en-US" sz="4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	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    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1.1 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ตาม พ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ร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บ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 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ยาเสพติดให้โทษ พ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ศ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 2522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                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1.2 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ตาม พ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ร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บ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 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วัตถุที่ออกฤทธิ์ต่อจิตและประสาท พ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ศ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 2518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                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1.3 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ตาม พ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ร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ก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 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ป้องกันการใช้สารระเหย พ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ศ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 2533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                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1.4 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ตาม พ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ร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บ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 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มาตรการในการปราบปรามผู้กระทำ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                      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ความผิดเกี่ยวกับยาเสพติด พ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</a:t>
              </a:r>
              <a:r>
                <a:rPr b="1" lang="hi-IN" sz="3600" spc="-1" strike="noStrike">
                  <a:solidFill>
                    <a:srgbClr val="ffff66"/>
                  </a:solidFill>
                  <a:latin typeface="Angsana New"/>
                </a:rPr>
                <a:t>ศ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. 2534</a:t>
              </a:r>
              <a:r>
                <a:rPr b="1" lang="en-US" sz="3600" spc="-1" strike="noStrike">
                  <a:solidFill>
                    <a:srgbClr val="ffff66"/>
                  </a:solidFill>
                  <a:latin typeface="Angsana New"/>
                </a:rPr>
                <a:t>	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0200" y="228600"/>
            <a:ext cx="6477120" cy="9144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"/>
          <p:cNvSpPr/>
          <p:nvPr/>
        </p:nvSpPr>
        <p:spPr>
          <a:xfrm>
            <a:off x="-228600" y="2089080"/>
            <a:ext cx="967752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ffff66"/>
                </a:solidFill>
                <a:latin typeface="Angsana New"/>
              </a:rPr>
              <a:t>2. </a:t>
            </a:r>
            <a:r>
              <a:rPr b="1" lang="th-TH" sz="4000" spc="-1" strike="noStrike">
                <a:solidFill>
                  <a:srgbClr val="ffff66"/>
                </a:solidFill>
                <a:latin typeface="Angsana New"/>
              </a:rPr>
              <a:t>ความผิดเกี่ยวกับเพศ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2.1 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ตามประมวลกฎหมายอาญ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                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2.2 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ตาม พ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ร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บ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มาตรการในการป้องกัน และปราบปรา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                      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การค้าหญิงและเด็ก พ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ศ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2540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                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2.3 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ตาม พ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ร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บ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ป้องกันและปราบปรามการค้าประเวณี พ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ศ</a:t>
            </a:r>
            <a:r>
              <a:rPr b="1" lang="th-TH" sz="3600" spc="-1" strike="noStrike">
                <a:solidFill>
                  <a:srgbClr val="ffff66"/>
                </a:solidFill>
                <a:latin typeface="Angsana New"/>
              </a:rPr>
              <a:t>. 2539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ngsana New"/>
              </a:rPr>
              <a:t>บทกฎหมายที่เกี่ยวข้อ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00200" y="228600"/>
            <a:ext cx="6477120" cy="9144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" name=""/>
          <p:cNvSpPr/>
          <p:nvPr/>
        </p:nvSpPr>
        <p:spPr>
          <a:xfrm>
            <a:off x="-227160" y="2403360"/>
            <a:ext cx="944892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3. </a:t>
            </a:r>
            <a:r>
              <a:rPr b="1" lang="hi-IN" sz="4000" spc="-1" strike="noStrike">
                <a:solidFill>
                  <a:srgbClr val="ffff66"/>
                </a:solidFill>
                <a:latin typeface="Angsana New"/>
              </a:rPr>
              <a:t>ความผิดเกี่ยวกับการฉ้อโกงประชาช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3.1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ตามประมวลกฎหมายอาญ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        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3.2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ตาม พ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ร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ก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การกู้ยืมเงินที่เป็นการฉ้อโกงประชาชน พ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ศ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2527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ngsana New"/>
              </a:rPr>
              <a:t>บทกฎหมายที่เกี่ยวข้อ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00200" y="228600"/>
            <a:ext cx="647712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" name=""/>
          <p:cNvSpPr/>
          <p:nvPr/>
        </p:nvSpPr>
        <p:spPr>
          <a:xfrm>
            <a:off x="-2666520" y="1835280"/>
            <a:ext cx="151203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4. </a:t>
            </a:r>
            <a:r>
              <a:rPr b="1" lang="hi-IN" sz="4000" spc="-1" strike="noStrike">
                <a:solidFill>
                  <a:srgbClr val="ffff66"/>
                </a:solidFill>
                <a:latin typeface="Angsana New"/>
              </a:rPr>
              <a:t>ความผิดเกี่ยวกับการยักยอก หรือ ฉ้อโกง หรือ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    </a:t>
            </a:r>
            <a:r>
              <a:rPr b="1" lang="hi-IN" sz="4000" spc="-1" strike="noStrike">
                <a:solidFill>
                  <a:srgbClr val="ffff66"/>
                </a:solidFill>
                <a:latin typeface="Angsana New"/>
              </a:rPr>
              <a:t>ประทุษร้าย ต่อทรัพย์สิน หรือกระทำการโดยทุจริต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               </a:t>
            </a:r>
            <a:r>
              <a:rPr b="1" lang="hi-IN" sz="4000" spc="-1" strike="noStrike">
                <a:solidFill>
                  <a:srgbClr val="ffff66"/>
                </a:solidFill>
                <a:latin typeface="Angsana New"/>
              </a:rPr>
              <a:t>โดยกรรมการ ผู้จัดการ ของสถาบันการเงิ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4.1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ตาม พ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ร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บ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การธนาคารพาณิชย์ พ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ศ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 2505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        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4.2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ตาม พ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ร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บ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การประกอบธุรกิจเงินทุนธุรกิจหลักทรัพย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                 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และกิจการเครดิตฟองซิเอร์ พ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ศ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 2522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        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4.3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ตาม พ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ร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บ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หลักทรัพย์ และ ตลาดหลักทรัพย์  พ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ศ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. 2535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ngsana New"/>
              </a:rPr>
              <a:t>บทกฎหมายที่เกี่ยวข้อ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00200" y="228600"/>
            <a:ext cx="6477120" cy="9144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-1531800" y="2117880"/>
            <a:ext cx="1172196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5. </a:t>
            </a:r>
            <a:r>
              <a:rPr b="1" lang="hi-IN" sz="4000" spc="-1" strike="noStrike">
                <a:solidFill>
                  <a:srgbClr val="ffff66"/>
                </a:solidFill>
                <a:latin typeface="Angsana New"/>
              </a:rPr>
              <a:t>ความผิดต่อตำแหน่งหน้าที่ราชการ หรือ ความผิด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    </a:t>
            </a:r>
            <a:r>
              <a:rPr b="1" lang="hi-IN" sz="4000" spc="-1" strike="noStrike">
                <a:solidFill>
                  <a:srgbClr val="ffff66"/>
                </a:solidFill>
                <a:latin typeface="Angsana New"/>
              </a:rPr>
              <a:t>ต่อตำแหน่งหน้าที่ในการยุติธรร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5.1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ความผิดต่อตำแหน่งหน้าที่ราชการตามประมวล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     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กฎหมายอาญ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        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5.2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ความผิดต่อตำแหน่งหน้าที่ในการยุติธรรมตา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     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ประมวลกฎหมายอาญ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        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5.3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ความผิดตามกฎหมายว่าด้วย ความผิดขอ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     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พนักงานในองค์กร หรือหน่วยงานของรัฐ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ngsana New"/>
              </a:rPr>
              <a:t>บทกฎหมายที่เกี่ยวข้อ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00200" y="228600"/>
            <a:ext cx="6477120" cy="9144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"/>
          <p:cNvSpPr/>
          <p:nvPr/>
        </p:nvSpPr>
        <p:spPr>
          <a:xfrm>
            <a:off x="-1466280" y="2590920"/>
            <a:ext cx="116305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6. </a:t>
            </a:r>
            <a:r>
              <a:rPr b="1" lang="hi-IN" sz="4000" spc="-1" strike="noStrike">
                <a:solidFill>
                  <a:srgbClr val="ffff66"/>
                </a:solidFill>
                <a:latin typeface="Angsana New"/>
              </a:rPr>
              <a:t>ความผิดเกี่ยวกับการกรรโชก หรือ รีดเอาทรัพย์ที่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ffff66"/>
                </a:solidFill>
                <a:latin typeface="Angsana New"/>
              </a:rPr>
              <a:t>    </a:t>
            </a:r>
            <a:r>
              <a:rPr b="1" lang="hi-IN" sz="4000" spc="-1" strike="noStrike">
                <a:solidFill>
                  <a:srgbClr val="ffff66"/>
                </a:solidFill>
                <a:latin typeface="Angsana New"/>
              </a:rPr>
              <a:t>กระทำโดยอ้างอำนาจอั้งยี่ หรือ ซ่องโจ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 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- </a:t>
            </a:r>
            <a:r>
              <a:rPr b="1" lang="hi-IN" sz="3600" spc="-1" strike="noStrike">
                <a:solidFill>
                  <a:srgbClr val="ffff66"/>
                </a:solidFill>
                <a:latin typeface="Angsana New"/>
              </a:rPr>
              <a:t>ตามประมวลกฎหมายอาญา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ngsana New"/>
              </a:rPr>
              <a:t>บทกฎหมายที่เกี่ยวข้อ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06:38:21Z</dcterms:created>
  <dc:creator>xxxx</dc:creator>
  <dc:description/>
  <dc:language>en-US</dc:language>
  <cp:lastModifiedBy>taniya</cp:lastModifiedBy>
  <dcterms:modified xsi:type="dcterms:W3CDTF">2007-06-13T03:43:46Z</dcterms:modified>
  <cp:revision>72</cp:revision>
  <dc:subject/>
  <dc:title>การเตรียมการในส่วนของ ตร. เพื่อปฏิบัติตาม พ.ร.บ.ป้องกันและปราบปรามการฟอกเงิน</dc:title>
</cp:coreProperties>
</file>